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152E-5B90-41B3-B7F3-B5237856A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E751-0F55-4A3E-A221-804EC791F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A758-6267-4379-B3F1-0336F38A6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C949-63D8-4E5F-AF86-A0039B7F1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D6E5-D189-4628-8E9D-4A9D35F38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E2F5-6F8F-48CE-A146-49FD8557C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16B1-C1E7-488D-8919-7313FAD4F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2BE9-7BA7-4D31-B934-F75E6137A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5CD4-E451-4C2C-8E7E-904A81213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D7B7-55D4-4AEB-BAC0-2AC3DDFAE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5547-8D99-48AC-88FE-FB998EFAE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D951-247C-4A73-AA83-9E2D7066D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669-EB27-4364-A516-ADC244CB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2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2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2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2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2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2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2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2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2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2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2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2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2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earning to Classify and Track Cognitive Processes using fMR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312408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.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Automated Learning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: Rebecca Hutchinson, Marcel Just, Francisco Pereira, Jay Pujara, Indra Rustandi, Wei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arest Nbr based on image-image spatial corre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between im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BatangChe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NewCenturySchlbk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7738" t="26077" r="3650" b="40037"/>
          <a:stretch/>
        </p:blipFill>
        <p:spPr>
          <a:xfrm>
            <a:off x="838080" y="1981080"/>
            <a:ext cx="71629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5769" t="68669" r="73800" b="13092"/>
          <a:stretch/>
        </p:blipFill>
        <p:spPr>
          <a:xfrm>
            <a:off x="1523880" y="4419720"/>
            <a:ext cx="198144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58425" t="68669" r="12501" b="13092"/>
          <a:stretch/>
        </p:blipFill>
        <p:spPr>
          <a:xfrm>
            <a:off x="4800600" y="4419720"/>
            <a:ext cx="281952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3657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ean and variance of im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ean Activation per Voxel          for Word Categor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4687" t="37269" r="9374" b="6251"/>
          <a:stretch/>
        </p:blipFill>
        <p:spPr>
          <a:xfrm>
            <a:off x="3276720" y="1238400"/>
            <a:ext cx="5700600" cy="5619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14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54560"/>
            <a:ext cx="2209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horizontal slice, from one subject, ventral temporal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ereira, et al 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914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914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8120"/>
            <a:ext cx="182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classification accuracy .95 (tools vs dwellings,     8 sub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050600">
            <a:off x="3809880" y="2971800"/>
            <a:ext cx="914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050600">
            <a:off x="3809880" y="5943600"/>
            <a:ext cx="914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050600">
            <a:off x="7010280" y="5943600"/>
            <a:ext cx="914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050600">
            <a:off x="6934320" y="3048120"/>
            <a:ext cx="914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Question: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brain is the activity that discriminates word categ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21932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18251" r="5810" b="40670"/>
          <a:stretch/>
        </p:blipFill>
        <p:spPr>
          <a:xfrm>
            <a:off x="0" y="289548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45720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of single-voxel classification accura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naïve Bayes classif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ellow and red are most predictive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867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Question: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different people’s brains ‘encode’ semantic categories using the same spatial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429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there are cross-subject regularities in “distances” between categories, as measured by classifier error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-Category Study: Pairwise Classification Error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ventral temporal cortex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600200"/>
          <a:ext cx="8763120" cy="4756320"/>
        </p:xfrm>
        <a:graphic>
          <a:graphicData uri="http://schemas.openxmlformats.org/drawingml/2006/table">
            <a:tbl>
              <a:tblPr/>
              <a:tblGrid>
                <a:gridCol w="1095480"/>
                <a:gridCol w="1022400"/>
                <a:gridCol w="1533600"/>
                <a:gridCol w="1241280"/>
                <a:gridCol w="1314360"/>
                <a:gridCol w="1168560"/>
                <a:gridCol w="138744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el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dg P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209680" y="1143000"/>
            <a:ext cx="1600200" cy="571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990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Worst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1143000"/>
            <a:ext cx="1600200" cy="57150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ults predicting word semantic category (6 categories study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pairwise prediction accuracy averaged over 8 subjects, using only single brain reg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ral temporal: 77%  (low: 57%, high 8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etal: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: 6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guess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6800"/>
            <a:ext cx="80010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ne can train machine learning classifiers to distinguish a variety of ment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ns about “tools” vs. nouns about “building part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n vs.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guous sentence vs. unambig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vs.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to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vs. fals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vs. affirmat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Nbr, Naïve Bayes, SVMs, NNet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pproaches to featur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in high dimensional, noisy classif [MLJ 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7312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gnitive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689440"/>
            <a:ext cx="158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served image se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95560" y="1612800"/>
            <a:ext cx="1371600" cy="851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8162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181160"/>
            <a:ext cx="1371600" cy="850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120" y="125748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ze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00880" y="1905120"/>
            <a:ext cx="1371600" cy="850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99000" y="201924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1981080"/>
            <a:ext cx="1371600" cy="851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34240" y="201924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01920" y="1574640"/>
            <a:ext cx="68580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1549440"/>
            <a:ext cx="4827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41600" y="1981080"/>
            <a:ext cx="889200" cy="139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079600" y="1994040"/>
            <a:ext cx="660600" cy="583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47720" y="5811840"/>
            <a:ext cx="698760" cy="641520"/>
            <a:chOff x="1647720" y="5811840"/>
            <a:chExt cx="698760" cy="641520"/>
          </a:xfrm>
        </p:grpSpPr>
        <p:sp>
          <p:nvSpPr>
            <p:cNvPr id="150" name=""/>
            <p:cNvSpPr/>
            <p:nvPr/>
          </p:nvSpPr>
          <p:spPr>
            <a:xfrm flipV="1">
              <a:off x="1908000" y="59011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647720" y="5906160"/>
              <a:ext cx="5403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714320" y="586368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1784520" y="581184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6676920" y="5773680"/>
            <a:ext cx="698760" cy="641520"/>
            <a:chOff x="6676920" y="5773680"/>
            <a:chExt cx="698760" cy="641520"/>
          </a:xfrm>
        </p:grpSpPr>
        <p:sp>
          <p:nvSpPr>
            <p:cNvPr id="155" name=""/>
            <p:cNvSpPr/>
            <p:nvPr/>
          </p:nvSpPr>
          <p:spPr>
            <a:xfrm flipV="1">
              <a:off x="6937200" y="58629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6676920" y="5868000"/>
              <a:ext cx="5403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6743520" y="582552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6"/>
            <a:stretch/>
          </p:blipFill>
          <p:spPr>
            <a:xfrm>
              <a:off x="6813720" y="577368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2549520" y="5811840"/>
            <a:ext cx="698400" cy="641520"/>
            <a:chOff x="2549520" y="5811840"/>
            <a:chExt cx="698400" cy="641520"/>
          </a:xfrm>
        </p:grpSpPr>
        <p:sp>
          <p:nvSpPr>
            <p:cNvPr id="160" name=""/>
            <p:cNvSpPr/>
            <p:nvPr/>
          </p:nvSpPr>
          <p:spPr>
            <a:xfrm flipV="1">
              <a:off x="2809440" y="59011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>
              <a:off x="2549520" y="590616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2" name="" descr=""/>
            <p:cNvPicPr/>
            <p:nvPr/>
          </p:nvPicPr>
          <p:blipFill>
            <a:blip r:embed="rId8"/>
            <a:stretch/>
          </p:blipFill>
          <p:spPr>
            <a:xfrm>
              <a:off x="2616120" y="58636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9"/>
            <a:stretch/>
          </p:blipFill>
          <p:spPr>
            <a:xfrm>
              <a:off x="2686320" y="58118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3425760" y="5811840"/>
            <a:ext cx="698400" cy="641520"/>
            <a:chOff x="3425760" y="5811840"/>
            <a:chExt cx="698400" cy="641520"/>
          </a:xfrm>
        </p:grpSpPr>
        <p:sp>
          <p:nvSpPr>
            <p:cNvPr id="165" name=""/>
            <p:cNvSpPr/>
            <p:nvPr/>
          </p:nvSpPr>
          <p:spPr>
            <a:xfrm flipV="1">
              <a:off x="3685680" y="59011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0"/>
            <a:stretch/>
          </p:blipFill>
          <p:spPr>
            <a:xfrm>
              <a:off x="3425760" y="590616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11"/>
            <a:stretch/>
          </p:blipFill>
          <p:spPr>
            <a:xfrm>
              <a:off x="3492360" y="58636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3562560" y="58118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4276800" y="5786280"/>
            <a:ext cx="698400" cy="641520"/>
            <a:chOff x="4276800" y="5786280"/>
            <a:chExt cx="698400" cy="641520"/>
          </a:xfrm>
        </p:grpSpPr>
        <p:sp>
          <p:nvSpPr>
            <p:cNvPr id="170" name=""/>
            <p:cNvSpPr/>
            <p:nvPr/>
          </p:nvSpPr>
          <p:spPr>
            <a:xfrm flipV="1">
              <a:off x="4536720" y="58755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4276800" y="588060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2" name="" descr=""/>
            <p:cNvPicPr/>
            <p:nvPr/>
          </p:nvPicPr>
          <p:blipFill>
            <a:blip r:embed="rId14"/>
            <a:stretch/>
          </p:blipFill>
          <p:spPr>
            <a:xfrm>
              <a:off x="4343400" y="58381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15"/>
            <a:stretch/>
          </p:blipFill>
          <p:spPr>
            <a:xfrm>
              <a:off x="4413600" y="57862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5038560" y="5786280"/>
            <a:ext cx="698760" cy="641520"/>
            <a:chOff x="5038560" y="5786280"/>
            <a:chExt cx="698760" cy="641520"/>
          </a:xfrm>
        </p:grpSpPr>
        <p:sp>
          <p:nvSpPr>
            <p:cNvPr id="175" name=""/>
            <p:cNvSpPr/>
            <p:nvPr/>
          </p:nvSpPr>
          <p:spPr>
            <a:xfrm flipV="1">
              <a:off x="5298840" y="58755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6"/>
            <a:stretch/>
          </p:blipFill>
          <p:spPr>
            <a:xfrm>
              <a:off x="5038560" y="5880600"/>
              <a:ext cx="5403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7" name="" descr=""/>
            <p:cNvPicPr/>
            <p:nvPr/>
          </p:nvPicPr>
          <p:blipFill>
            <a:blip r:embed="rId17"/>
            <a:stretch/>
          </p:blipFill>
          <p:spPr>
            <a:xfrm>
              <a:off x="5105160" y="583812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18"/>
            <a:stretch/>
          </p:blipFill>
          <p:spPr>
            <a:xfrm>
              <a:off x="5175360" y="578628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5864400" y="5797440"/>
            <a:ext cx="698400" cy="641520"/>
            <a:chOff x="5864400" y="5797440"/>
            <a:chExt cx="698400" cy="641520"/>
          </a:xfrm>
        </p:grpSpPr>
        <p:sp>
          <p:nvSpPr>
            <p:cNvPr id="180" name=""/>
            <p:cNvSpPr/>
            <p:nvPr/>
          </p:nvSpPr>
          <p:spPr>
            <a:xfrm flipV="1">
              <a:off x="6124320" y="58867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9"/>
            <a:stretch/>
          </p:blipFill>
          <p:spPr>
            <a:xfrm>
              <a:off x="5864400" y="589176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20"/>
            <a:stretch/>
          </p:blipFill>
          <p:spPr>
            <a:xfrm>
              <a:off x="5931000" y="58492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3" name="" descr=""/>
            <p:cNvPicPr/>
            <p:nvPr/>
          </p:nvPicPr>
          <p:blipFill>
            <a:blip r:embed="rId21"/>
            <a:stretch/>
          </p:blipFill>
          <p:spPr>
            <a:xfrm>
              <a:off x="6001200" y="57974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7489800" y="5786280"/>
            <a:ext cx="698400" cy="641520"/>
            <a:chOff x="7489800" y="5786280"/>
            <a:chExt cx="698400" cy="641520"/>
          </a:xfrm>
        </p:grpSpPr>
        <p:sp>
          <p:nvSpPr>
            <p:cNvPr id="185" name=""/>
            <p:cNvSpPr/>
            <p:nvPr/>
          </p:nvSpPr>
          <p:spPr>
            <a:xfrm flipV="1">
              <a:off x="7749720" y="58755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22"/>
            <a:stretch/>
          </p:blipFill>
          <p:spPr>
            <a:xfrm>
              <a:off x="7489800" y="588060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" descr=""/>
            <p:cNvPicPr/>
            <p:nvPr/>
          </p:nvPicPr>
          <p:blipFill>
            <a:blip r:embed="rId23"/>
            <a:stretch/>
          </p:blipFill>
          <p:spPr>
            <a:xfrm>
              <a:off x="7556400" y="58381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8" name="" descr=""/>
            <p:cNvPicPr/>
            <p:nvPr/>
          </p:nvPicPr>
          <p:blipFill>
            <a:blip r:embed="rId24"/>
            <a:stretch/>
          </p:blipFill>
          <p:spPr>
            <a:xfrm>
              <a:off x="7626600" y="57862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8264520" y="5773680"/>
            <a:ext cx="698400" cy="641520"/>
            <a:chOff x="8264520" y="5773680"/>
            <a:chExt cx="698400" cy="641520"/>
          </a:xfrm>
        </p:grpSpPr>
        <p:sp>
          <p:nvSpPr>
            <p:cNvPr id="190" name=""/>
            <p:cNvSpPr/>
            <p:nvPr/>
          </p:nvSpPr>
          <p:spPr>
            <a:xfrm flipV="1">
              <a:off x="8524440" y="58629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5"/>
            <a:stretch/>
          </p:blipFill>
          <p:spPr>
            <a:xfrm>
              <a:off x="8264520" y="586800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26"/>
            <a:stretch/>
          </p:blipFill>
          <p:spPr>
            <a:xfrm>
              <a:off x="8331120" y="58255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3" name="" descr=""/>
            <p:cNvPicPr/>
            <p:nvPr/>
          </p:nvPicPr>
          <p:blipFill>
            <a:blip r:embed="rId27"/>
            <a:stretch/>
          </p:blipFill>
          <p:spPr>
            <a:xfrm>
              <a:off x="8401320" y="57736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94" name=""/>
          <p:cNvSpPr/>
          <p:nvPr/>
        </p:nvSpPr>
        <p:spPr>
          <a:xfrm flipV="1">
            <a:off x="6654960" y="1727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416040" y="2197080"/>
            <a:ext cx="240012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984720" y="2247840"/>
            <a:ext cx="927000" cy="35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5240" y="3060720"/>
            <a:ext cx="19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zed intermediate cognitive states, representations, proc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92360" y="3720960"/>
            <a:ext cx="559080" cy="34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0680" y="3340080"/>
            <a:ext cx="558720" cy="34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21240" y="3911760"/>
            <a:ext cx="558720" cy="342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63960" y="3200400"/>
            <a:ext cx="559080" cy="34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936960" y="3606840"/>
            <a:ext cx="10152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33840" y="3365640"/>
            <a:ext cx="30492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038480" y="3543480"/>
            <a:ext cx="927360" cy="2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927680" y="3530520"/>
            <a:ext cx="177840" cy="40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187800" y="1739880"/>
            <a:ext cx="90144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62240" y="2959200"/>
            <a:ext cx="30481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1866960"/>
            <a:ext cx="876240" cy="16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384880" y="3034800"/>
            <a:ext cx="67320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2362320"/>
            <a:ext cx="1015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028840" y="2666880"/>
            <a:ext cx="2971800" cy="12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552760" y="3987720"/>
            <a:ext cx="3327120" cy="2692440"/>
            <a:chOff x="2552760" y="3987720"/>
            <a:chExt cx="3327120" cy="2692440"/>
          </a:xfrm>
        </p:grpSpPr>
        <p:sp>
          <p:nvSpPr>
            <p:cNvPr id="213" name=""/>
            <p:cNvSpPr/>
            <p:nvPr/>
          </p:nvSpPr>
          <p:spPr>
            <a:xfrm flipH="1">
              <a:off x="4102200" y="4190760"/>
              <a:ext cx="40608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2200" y="5371920"/>
              <a:ext cx="1777680" cy="130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67360" y="4190760"/>
              <a:ext cx="774720" cy="16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2760" y="5308560"/>
              <a:ext cx="2590560" cy="13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577600" y="4012920"/>
              <a:ext cx="901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8480" y="3987720"/>
              <a:ext cx="1117800" cy="18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108160" y="64008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83560" y="901800"/>
            <a:ext cx="1371600" cy="850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101592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97960" y="1714680"/>
            <a:ext cx="5839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t We Really Wa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546880"/>
            <a:ext cx="158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d fMRI, ERP, Behavioral data, etc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33920" y="2057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 we classify/tra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2057400" y="632448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rcRect l="12840" t="19277" r="64539" b="67097"/>
          <a:stretch/>
        </p:blipFill>
        <p:spPr>
          <a:xfrm>
            <a:off x="2095560" y="45594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rcRect l="12810" t="81133" r="64669" b="0"/>
          <a:stretch/>
        </p:blipFill>
        <p:spPr>
          <a:xfrm>
            <a:off x="2050920" y="53341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377800">
            <a:off x="4482720" y="41274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781680" y="59436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1676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2362320"/>
            <a:ext cx="92736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3623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219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gnitive proces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981080" y="1136160"/>
            <a:ext cx="5791320" cy="793800"/>
            <a:chOff x="1981080" y="1136160"/>
            <a:chExt cx="5791320" cy="793800"/>
          </a:xfrm>
        </p:grpSpPr>
        <p:sp>
          <p:nvSpPr>
            <p:cNvPr id="250" name=""/>
            <p:cNvSpPr/>
            <p:nvPr/>
          </p:nvSpPr>
          <p:spPr>
            <a:xfrm>
              <a:off x="1981080" y="1143000"/>
              <a:ext cx="57913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184480" y="113652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485880" y="1136160"/>
              <a:ext cx="6120" cy="79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276720" y="2133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114800"/>
            <a:ext cx="20574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tical region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tical region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button pres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90720" y="4724280"/>
            <a:ext cx="674640" cy="685800"/>
            <a:chOff x="990720" y="4724280"/>
            <a:chExt cx="674640" cy="685800"/>
          </a:xfrm>
        </p:grpSpPr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990720" y="472428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1359720" y="4861080"/>
              <a:ext cx="71280" cy="154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1600" y="5134320"/>
              <a:ext cx="136800" cy="6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unctional MR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1480" y="941400"/>
            <a:ext cx="759924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yes Net related State-Space Mode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762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M’s, DBNs, etc. e.g., [Ghahramani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3230" t="14072" r="6950" b="46010"/>
          <a:stretch/>
        </p:blipFill>
        <p:spPr>
          <a:xfrm>
            <a:off x="1981080" y="2624040"/>
            <a:ext cx="5639040" cy="3167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52280" y="25909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subprocesses / stat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-914400" y="2997360"/>
            <a:ext cx="11214000" cy="3573720"/>
            <a:chOff x="-914400" y="2997360"/>
            <a:chExt cx="11214000" cy="3573720"/>
          </a:xfrm>
        </p:grpSpPr>
        <p:sp>
          <p:nvSpPr>
            <p:cNvPr id="264" name=""/>
            <p:cNvSpPr/>
            <p:nvPr/>
          </p:nvSpPr>
          <p:spPr>
            <a:xfrm>
              <a:off x="380880" y="5105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MR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1800" y="4724280"/>
              <a:ext cx="1600200" cy="6098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0" y="4724280"/>
              <a:ext cx="1600200" cy="6098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76920" y="4724280"/>
              <a:ext cx="1600200" cy="6098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4648320"/>
              <a:ext cx="1600200" cy="6094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1800" y="4724280"/>
              <a:ext cx="350532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76920" y="4724280"/>
              <a:ext cx="350496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914400" y="4648320"/>
              <a:ext cx="350532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3886200"/>
              <a:ext cx="152388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3886200"/>
              <a:ext cx="152424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0" y="3809880"/>
              <a:ext cx="152388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800" y="3886200"/>
              <a:ext cx="34290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9200" y="3886200"/>
              <a:ext cx="34290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3809880"/>
              <a:ext cx="3429000" cy="1371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71800" y="3048120"/>
              <a:ext cx="1600200" cy="22096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3048120"/>
              <a:ext cx="1600200" cy="22096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3048120"/>
              <a:ext cx="1600200" cy="22096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0600" y="61722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e  [Hojen-Sorensen et al, NIPS99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9200" y="2997360"/>
              <a:ext cx="3365280" cy="218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2880" y="3048120"/>
              <a:ext cx="3365640" cy="218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4320" y="3048120"/>
              <a:ext cx="3365280" cy="218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idden Process Models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ef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esponse duratio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Distribution: [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(v,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pre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: set of process instances, each defin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probability distribution over sequences of fMRI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858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ith Rebecca Hutchinson, Indra Rustand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3334" t="17777" r="11667" b="4446"/>
          <a:stretch/>
        </p:blipFill>
        <p:spPr>
          <a:xfrm>
            <a:off x="4952880" y="0"/>
            <a:ext cx="4191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idden Process Mode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fMRI observ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v,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16511" t="24187" r="4232" b="9849"/>
          <a:stretch/>
        </p:blipFill>
        <p:spPr>
          <a:xfrm>
            <a:off x="685800" y="3733920"/>
            <a:ext cx="731520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09480" y="4495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334" t="17777" r="11667" b="4446"/>
          <a:stretch/>
        </p:blipFill>
        <p:spPr>
          <a:xfrm>
            <a:off x="4952880" y="0"/>
            <a:ext cx="4191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idden Process Mode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3334" t="17777" r="11667" b="4446"/>
          <a:stretch/>
        </p:blipFill>
        <p:spPr>
          <a:xfrm>
            <a:off x="4952880" y="0"/>
            <a:ext cx="4191120" cy="2876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52280" y="29718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297180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ing latent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number of process instances is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t variables are their IDs and Start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s, uniform pr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t variables are independent within each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imes have same value in each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neral Linear Mode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MRI data analysi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‘design matrix’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describes timing of input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X h + </a:t>
            </a:r>
            <a:r>
              <a:rPr b="0" i="1" lang="el-GR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4480" y="39625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32040" y="4876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4760" y="39625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800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 to 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362320" y="37339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57600" y="39625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724280" y="39625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562720" y="388584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791320"/>
            <a:ext cx="838224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PM’s correspond to assuming X describes both stimuli and hidden mental processes, a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tially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earning HP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process IDs,start 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squares regression, eg. Dale[HBM,19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least sq if assume noise indep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least sq if assume autocorrelate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start 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estimate distribution over lat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: choose parameters to maximize expected log data 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3334" t="17777" r="11667" b="4446"/>
          <a:stretch/>
        </p:blipFill>
        <p:spPr>
          <a:xfrm>
            <a:off x="4952880" y="0"/>
            <a:ext cx="4191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HP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2819520"/>
            <a:ext cx="8610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HPM and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he Interpretation that maximizes data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to known process instance IDs and constraints on their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: assign maximum likelihood processI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3334" t="17777" r="11667" b="4446"/>
          <a:stretch/>
        </p:blipFill>
        <p:spPr>
          <a:xfrm>
            <a:off x="4952880" y="0"/>
            <a:ext cx="4191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B classifier is a special case of HPM class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3240" y="1143000"/>
            <a:ext cx="17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06800" y="1143000"/>
            <a:ext cx="17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3440" y="1752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220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2205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3372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2205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212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50320" y="9907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428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940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0" y="22860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22096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4880" y="1752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638320" y="1290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985" t="38277" r="7893" b="26538"/>
          <a:stretch/>
        </p:blipFill>
        <p:spPr>
          <a:xfrm>
            <a:off x="228600" y="26668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907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3124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" descr=""/>
          <p:cNvPicPr/>
          <p:nvPr/>
        </p:nvPicPr>
        <p:blipFill>
          <a:blip r:embed="rId4"/>
          <a:srcRect l="5985" t="38277" r="7893" b="26538"/>
          <a:stretch/>
        </p:blipFill>
        <p:spPr>
          <a:xfrm>
            <a:off x="4038480" y="26668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317000" y="23623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7240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0" y="4495680"/>
            <a:ext cx="9753480" cy="1526760"/>
            <a:chOff x="0" y="4495680"/>
            <a:chExt cx="9753480" cy="1526760"/>
          </a:xfrm>
        </p:grpSpPr>
        <p:pic>
          <p:nvPicPr>
            <p:cNvPr id="345" name="" descr=""/>
            <p:cNvPicPr/>
            <p:nvPr/>
          </p:nvPicPr>
          <p:blipFill>
            <a:blip r:embed="rId5"/>
            <a:srcRect l="5985" t="38277" r="7893" b="26538"/>
            <a:stretch/>
          </p:blipFill>
          <p:spPr>
            <a:xfrm>
              <a:off x="228600" y="4495680"/>
              <a:ext cx="571500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99072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cture or senten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578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cture or senten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6"/>
            <a:srcRect l="5985" t="38277" r="7893" b="26538"/>
            <a:stretch/>
          </p:blipFill>
          <p:spPr>
            <a:xfrm>
              <a:off x="4114800" y="4876920"/>
              <a:ext cx="563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0" y="5029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P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-304920" y="3657600"/>
            <a:ext cx="9753840" cy="3200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66680" y="6248520"/>
            <a:ext cx="50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ial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04920" y="304920"/>
            <a:ext cx="8229600" cy="4038480"/>
            <a:chOff x="304920" y="304920"/>
            <a:chExt cx="8229600" cy="4038480"/>
          </a:xfrm>
        </p:grpSpPr>
        <p:sp>
          <p:nvSpPr>
            <p:cNvPr id="353" name=""/>
            <p:cNvSpPr/>
            <p:nvPr/>
          </p:nvSpPr>
          <p:spPr>
            <a:xfrm>
              <a:off x="4724280" y="3124080"/>
              <a:ext cx="38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rned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304920" y="2057400"/>
              <a:ext cx="4190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"/>
            <a:stretch/>
          </p:blipFill>
          <p:spPr>
            <a:xfrm>
              <a:off x="2209680" y="304920"/>
              <a:ext cx="4191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365760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43600" y="2514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28400" y="205740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hend 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23280" y="3809880"/>
              <a:ext cx="22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hend pi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NB vs. HPM Classifica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NB: non-overlapp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: simultaneous classification of multiple overlapp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improvement of 15% in classification error using HPM vs G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subject 048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B classification error: 0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M classification error: 0.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-3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nctional Magnetic Resonance Imaging (fMRI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70120"/>
            <a:ext cx="2971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1 mm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2 images per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,000 voxels/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invasive,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s Blood Oxygen Level Dependent (BOLD)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44953" b="0"/>
          <a:stretch/>
        </p:blipFill>
        <p:spPr>
          <a:xfrm>
            <a:off x="2751120" y="1011240"/>
            <a:ext cx="4210200" cy="460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54547" t="0" r="0" b="0"/>
          <a:stretch/>
        </p:blipFill>
        <p:spPr>
          <a:xfrm>
            <a:off x="6980400" y="1035000"/>
            <a:ext cx="2163600" cy="364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62920" y="52578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153280" y="4343400"/>
            <a:ext cx="0" cy="99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3886200"/>
            <a:ext cx="79524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0 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733920" y="2057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idden processes with unknown star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53352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6324480"/>
            <a:ext cx="5867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rcRect l="12840" t="19277" r="64539" b="67097"/>
          <a:stretch/>
        </p:blipFill>
        <p:spPr>
          <a:xfrm>
            <a:off x="2095560" y="45594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rcRect l="12810" t="81133" r="64669" b="0"/>
          <a:stretch/>
        </p:blipFill>
        <p:spPr>
          <a:xfrm>
            <a:off x="2050920" y="53341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5377800">
            <a:off x="4482720" y="41274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781680" y="59436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button p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1371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1676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2362320"/>
            <a:ext cx="92736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23623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990720"/>
            <a:ext cx="7315200" cy="1602720"/>
            <a:chOff x="457200" y="990720"/>
            <a:chExt cx="7315200" cy="1602720"/>
          </a:xfrm>
        </p:grpSpPr>
        <p:grpSp>
          <p:nvGrpSpPr>
            <p:cNvPr id="390" name=""/>
            <p:cNvGrpSpPr/>
            <p:nvPr/>
          </p:nvGrpSpPr>
          <p:grpSpPr>
            <a:xfrm>
              <a:off x="457200" y="990720"/>
              <a:ext cx="7315200" cy="939240"/>
              <a:chOff x="457200" y="990720"/>
              <a:chExt cx="7315200" cy="939240"/>
            </a:xfrm>
          </p:grpSpPr>
          <p:sp>
            <p:nvSpPr>
              <p:cNvPr id="391" name=""/>
              <p:cNvSpPr/>
              <p:nvPr/>
            </p:nvSpPr>
            <p:spPr>
              <a:xfrm>
                <a:off x="457200" y="99072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 stimuli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1981080" y="1136160"/>
                <a:ext cx="5791320" cy="793800"/>
                <a:chOff x="1981080" y="1136160"/>
                <a:chExt cx="5791320" cy="7938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981080" y="1143000"/>
                  <a:ext cx="57913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2184480" y="113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>
                  <a:off x="3485880" y="1136160"/>
                  <a:ext cx="6120" cy="793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"/>
            <p:cNvSpPr/>
            <p:nvPr/>
          </p:nvSpPr>
          <p:spPr>
            <a:xfrm>
              <a:off x="3276720" y="21337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28600" y="1522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rned HPM with 3 processes (S,P,D), and R=13sec (TR=500mse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5486400" cy="2970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004760" y="1447920"/>
            <a:ext cx="9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562040" y="1319040"/>
            <a:ext cx="838440" cy="5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957400" y="1314000"/>
            <a:ext cx="828720" cy="4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1371600"/>
            <a:ext cx="8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71720" y="11811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14680" y="1119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7180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1447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1120" y="2743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943280" y="457200"/>
            <a:ext cx="6972120" cy="6301800"/>
            <a:chOff x="1943280" y="457200"/>
            <a:chExt cx="6972120" cy="6301800"/>
          </a:xfrm>
        </p:grpSpPr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6095880" y="914400"/>
              <a:ext cx="281952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6095880" y="5105520"/>
              <a:ext cx="28195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6095880" y="3581280"/>
              <a:ext cx="28195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476040" y="45720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ed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1554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3140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31760" y="5334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3280" y="629928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start time chosen by program as t+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28600" y="3349800"/>
            <a:ext cx="5486400" cy="2976480"/>
            <a:chOff x="228600" y="3349800"/>
            <a:chExt cx="5486400" cy="2976480"/>
          </a:xfrm>
        </p:grpSpPr>
        <p:pic>
          <p:nvPicPr>
            <p:cNvPr id="419" name="" descr=""/>
            <p:cNvPicPr/>
            <p:nvPr/>
          </p:nvPicPr>
          <p:blipFill>
            <a:blip r:embed="rId5"/>
            <a:stretch/>
          </p:blipFill>
          <p:spPr>
            <a:xfrm>
              <a:off x="228600" y="3349800"/>
              <a:ext cx="548640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351600" y="5562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onstru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990720" y="3962520"/>
              <a:ext cx="3476160" cy="587880"/>
              <a:chOff x="990720" y="3962520"/>
              <a:chExt cx="3476160" cy="587880"/>
            </a:xfrm>
          </p:grpSpPr>
          <p:sp>
            <p:nvSpPr>
              <p:cNvPr id="422" name=""/>
              <p:cNvSpPr/>
              <p:nvPr/>
            </p:nvSpPr>
            <p:spPr>
              <a:xfrm>
                <a:off x="990720" y="4343400"/>
                <a:ext cx="90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47640" y="4214160"/>
                <a:ext cx="838080" cy="4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2943000" y="4209840"/>
                <a:ext cx="828360" cy="4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90920" y="4267080"/>
                <a:ext cx="85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57320" y="407664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00280" y="401472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85800" y="396252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57400" y="396252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1633320" y="4243320"/>
                <a:ext cx="900000" cy="307080"/>
                <a:chOff x="1633320" y="4243320"/>
                <a:chExt cx="900000" cy="3070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633320" y="4495320"/>
                  <a:ext cx="9000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895040" y="4243320"/>
                  <a:ext cx="456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566880" y="4238640"/>
                <a:ext cx="900000" cy="307080"/>
                <a:chOff x="3566880" y="4238640"/>
                <a:chExt cx="900000" cy="3070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566880" y="4490280"/>
                  <a:ext cx="9000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28600" y="4238640"/>
                  <a:ext cx="456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6" name=""/>
          <p:cNvSpPr/>
          <p:nvPr/>
        </p:nvSpPr>
        <p:spPr>
          <a:xfrm>
            <a:off x="3505320" y="1371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6"/>
          <a:srcRect l="80836" t="19873" r="10834" b="53701"/>
          <a:stretch/>
        </p:blipFill>
        <p:spPr>
          <a:xfrm>
            <a:off x="4343400" y="152388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results: HPM’s on PictS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 classification accuracy for Pict/Sent better than G Naïve Bayes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with 2 or 3 cognitive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we know ground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validated data likelihood P(testData | H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with 3 processes tha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validated classification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with 3 processes tha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PM’s: Future Directions (1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 start times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far: uniform prior over star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: assume Gaussian distributed with coupled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 emission distribution ove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(v1,t) and W(v2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 emission distribution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(v,t) and W(v,t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oces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, readWord(partOfSpe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ross-process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meaning influences decis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PM’s: Future Directions (2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cess-to-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ComprehendSentence influences DecideEqu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d &gt; ComprehendLanguage &gt; Comprehen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HPMs to ACT-R, 4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computation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PMs to model cognitive processes across multipl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al: Help Build General Models of Cognitive Process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762120" y="990720"/>
            <a:ext cx="4114800" cy="1371600"/>
            <a:chOff x="762120" y="990720"/>
            <a:chExt cx="4114800" cy="1371600"/>
          </a:xfrm>
        </p:grpSpPr>
        <p:sp>
          <p:nvSpPr>
            <p:cNvPr id="449" name=""/>
            <p:cNvSpPr/>
            <p:nvPr/>
          </p:nvSpPr>
          <p:spPr>
            <a:xfrm>
              <a:off x="1143000" y="137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66680" y="9907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Read 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05120" y="17528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28800" y="13719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Decid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ateg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66880" y="18291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Push but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43200" y="2210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120" y="990720"/>
              <a:ext cx="41148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048120" y="2666880"/>
            <a:ext cx="4952880" cy="1828800"/>
            <a:chOff x="3048120" y="2666880"/>
            <a:chExt cx="4952880" cy="1828800"/>
          </a:xfrm>
        </p:grpSpPr>
        <p:grpSp>
          <p:nvGrpSpPr>
            <p:cNvPr id="457" name=""/>
            <p:cNvGrpSpPr/>
            <p:nvPr/>
          </p:nvGrpSpPr>
          <p:grpSpPr>
            <a:xfrm>
              <a:off x="3200400" y="2743200"/>
              <a:ext cx="4496040" cy="1541880"/>
              <a:chOff x="3200400" y="2743200"/>
              <a:chExt cx="4496040" cy="1541880"/>
            </a:xfrm>
          </p:grpSpPr>
          <p:sp>
            <p:nvSpPr>
              <p:cNvPr id="458" name=""/>
              <p:cNvSpPr/>
              <p:nvPr/>
            </p:nvSpPr>
            <p:spPr>
              <a:xfrm>
                <a:off x="3200400" y="27432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48320" y="27432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810240" y="3124080"/>
                <a:ext cx="2438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Comprehen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sen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48320" y="350532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ecid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tru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91320" y="388620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ush butt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7640" y="42670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53240" y="38862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276720" y="31240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24640" y="31240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86200" y="350532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048120" y="2666880"/>
              <a:ext cx="49528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90720" y="4800600"/>
            <a:ext cx="6476760" cy="1828800"/>
            <a:chOff x="990720" y="4800600"/>
            <a:chExt cx="6476760" cy="1828800"/>
          </a:xfrm>
        </p:grpSpPr>
        <p:grpSp>
          <p:nvGrpSpPr>
            <p:cNvPr id="470" name=""/>
            <p:cNvGrpSpPr/>
            <p:nvPr/>
          </p:nvGrpSpPr>
          <p:grpSpPr>
            <a:xfrm>
              <a:off x="1066680" y="4873680"/>
              <a:ext cx="6172200" cy="1701000"/>
              <a:chOff x="1066680" y="4873680"/>
              <a:chExt cx="6172200" cy="1701000"/>
            </a:xfrm>
          </p:grpSpPr>
          <p:sp>
            <p:nvSpPr>
              <p:cNvPr id="471" name=""/>
              <p:cNvSpPr/>
              <p:nvPr/>
            </p:nvSpPr>
            <p:spPr>
              <a:xfrm>
                <a:off x="1218960" y="566928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57240" y="523512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05160" y="52351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4960" y="48736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2880" y="48736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066680" y="5307480"/>
                <a:ext cx="243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Comprehen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pic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2160" y="5307480"/>
                <a:ext cx="2438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Comprehend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n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14440" y="566928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495680" y="574164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ecid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pic=?=s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95680" y="610344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33760" y="617580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ush butt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10080" y="653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990720" y="4800600"/>
              <a:ext cx="647676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ND OF TAL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rcRect l="28713" t="12301" r="23958" b="7687"/>
          <a:stretch/>
        </p:blipFill>
        <p:spPr>
          <a:xfrm>
            <a:off x="1257480" y="762120"/>
            <a:ext cx="4962240" cy="6095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410080" y="914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nderson, Qin, &amp; Sohn, 2002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152280"/>
            <a:ext cx="62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Predicted by ACT-R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81480" y="1752480"/>
            <a:ext cx="3733920" cy="1448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ypical ACT-R ru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  “_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= b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“ _ = &lt;b &lt;inv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a&gt;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276360" y="2514600"/>
            <a:ext cx="1981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647960" y="29718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571640" y="2971800"/>
            <a:ext cx="60948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-152280" y="0"/>
            <a:ext cx="9601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76720" y="5110200"/>
            <a:ext cx="2666880" cy="1747800"/>
            <a:chOff x="3276720" y="5110200"/>
            <a:chExt cx="2666880" cy="174780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rcRect l="21668" t="47337" r="41643" b="22000"/>
            <a:stretch/>
          </p:blipFill>
          <p:spPr>
            <a:xfrm>
              <a:off x="3276720" y="5110200"/>
              <a:ext cx="266688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594760" y="5258520"/>
              <a:ext cx="341640" cy="10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2"/>
          <a:srcRect l="24482" t="31542" r="21614" b="19759"/>
          <a:stretch/>
        </p:blipFill>
        <p:spPr>
          <a:xfrm>
            <a:off x="6156360" y="3160800"/>
            <a:ext cx="2206440" cy="1449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rcRect l="31251" t="21735" r="26979" b="39868"/>
          <a:stretch/>
        </p:blipFill>
        <p:spPr>
          <a:xfrm>
            <a:off x="927000" y="3154320"/>
            <a:ext cx="2014560" cy="1447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rcRect l="29479" t="18133" r="28750" b="44003"/>
          <a:stretch/>
        </p:blipFill>
        <p:spPr>
          <a:xfrm>
            <a:off x="3483000" y="3159000"/>
            <a:ext cx="2041560" cy="14464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 rot="3299400">
            <a:off x="5310720" y="5776200"/>
            <a:ext cx="2700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00360" y="4336920"/>
            <a:ext cx="1450800" cy="1679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010120" y="4422600"/>
            <a:ext cx="2028960" cy="1214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99120" y="4464000"/>
            <a:ext cx="155520" cy="1231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33800" y="5996160"/>
            <a:ext cx="38592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7160" y="714240"/>
            <a:ext cx="24368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nderson, Q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Sohn,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5"/>
          <a:srcRect l="30418" t="19403" r="20103" b="27476"/>
          <a:stretch/>
        </p:blipFill>
        <p:spPr>
          <a:xfrm>
            <a:off x="3220920" y="0"/>
            <a:ext cx="3065760" cy="26337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530600" y="1454040"/>
            <a:ext cx="2352960" cy="2073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292640" y="1479600"/>
            <a:ext cx="660240" cy="1914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844720" y="546120"/>
            <a:ext cx="2054160" cy="2787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6"/>
          <a:srcRect l="28713" t="12301" r="23958" b="7687"/>
          <a:stretch/>
        </p:blipFill>
        <p:spPr>
          <a:xfrm>
            <a:off x="855720" y="355680"/>
            <a:ext cx="1662120" cy="20415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552760" y="1244520"/>
            <a:ext cx="622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hich Feature Selection Works Best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wisdom: pick featur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best distinguish between class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or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mutual information, choose top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73392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y work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10666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h to learn F:  &lt;x1,x2,…xn&gt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A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562" t="8166" r="8594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5334120" y="43434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he learning sett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6232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5638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24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80240" y="19051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67840" y="19051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16560" y="60958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t / Fi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17" idx="6"/>
            <a:endCxn id="519" idx="2"/>
          </p:cNvCxnSpPr>
          <p:nvPr/>
        </p:nvCxnSpPr>
        <p:spPr>
          <a:xfrm>
            <a:off x="2819520" y="2514240"/>
            <a:ext cx="3505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"/>
          <p:cNvCxnSpPr>
            <a:stCxn id="517" idx="5"/>
            <a:endCxn id="518" idx="1"/>
          </p:cNvCxnSpPr>
          <p:nvPr/>
        </p:nvCxnSpPr>
        <p:spPr>
          <a:xfrm>
            <a:off x="2752560" y="267660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5" name=""/>
          <p:cNvCxnSpPr>
            <a:stCxn id="518" idx="7"/>
            <a:endCxn id="519" idx="3"/>
          </p:cNvCxnSpPr>
          <p:nvPr/>
        </p:nvCxnSpPr>
        <p:spPr>
          <a:xfrm flipV="1">
            <a:off x="4734000" y="267624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3420360" y="25146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discrimin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7164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8152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2563920"/>
            <a:ext cx="237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68760" y="2606760"/>
            <a:ext cx="180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73160" y="4967280"/>
            <a:ext cx="224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47880" y="2897280"/>
            <a:ext cx="81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73160" y="3179880"/>
            <a:ext cx="774720" cy="15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666880" y="3179880"/>
            <a:ext cx="609840" cy="15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2057400"/>
            <a:ext cx="4343400" cy="4449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learn f: X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or P(Y|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examples 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wher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       signal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P(S|Y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       nois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noise with zero signal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304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Signal” learning sett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73160" y="5484960"/>
            <a:ext cx="22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signal (fix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680" y="178452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1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17845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2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91440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eatures based on discrim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discrim(Z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28600" y="457200"/>
            <a:ext cx="868680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aussian Naïve Bayes (GNB) classifi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class value,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feature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ssible value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distrib. for each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Gaussi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62120" cy="341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2085840" cy="41760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228600" y="4267080"/>
            <a:ext cx="8458200" cy="1274760"/>
            <a:chOff x="228600" y="4267080"/>
            <a:chExt cx="8458200" cy="1274760"/>
          </a:xfrm>
        </p:grpSpPr>
        <p:grpSp>
          <p:nvGrpSpPr>
            <p:cNvPr id="545" name=""/>
            <p:cNvGrpSpPr/>
            <p:nvPr/>
          </p:nvGrpSpPr>
          <p:grpSpPr>
            <a:xfrm>
              <a:off x="228600" y="4267080"/>
              <a:ext cx="8458200" cy="1274760"/>
              <a:chOff x="228600" y="4267080"/>
              <a:chExt cx="8458200" cy="1274760"/>
            </a:xfrm>
          </p:grpSpPr>
          <p:sp>
            <p:nvSpPr>
              <p:cNvPr id="546" name=""/>
              <p:cNvSpPr/>
              <p:nvPr/>
            </p:nvSpPr>
            <p:spPr>
              <a:xfrm>
                <a:off x="228600" y="4267080"/>
                <a:ext cx="84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pplying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GNB classifier to new inst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4876920"/>
                <a:ext cx="4953240" cy="664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8" name="" descr=""/>
            <p:cNvPicPr/>
            <p:nvPr/>
          </p:nvPicPr>
          <p:blipFill>
            <a:blip r:embed="rId4"/>
            <a:stretch/>
          </p:blipFill>
          <p:spPr>
            <a:xfrm>
              <a:off x="5867280" y="4343400"/>
              <a:ext cx="1498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6858000" y="533520"/>
            <a:ext cx="2057400" cy="1424520"/>
            <a:chOff x="6858000" y="533520"/>
            <a:chExt cx="2057400" cy="1424520"/>
          </a:xfrm>
        </p:grpSpPr>
        <p:grpSp>
          <p:nvGrpSpPr>
            <p:cNvPr id="550" name=""/>
            <p:cNvGrpSpPr/>
            <p:nvPr/>
          </p:nvGrpSpPr>
          <p:grpSpPr>
            <a:xfrm>
              <a:off x="7467480" y="1447920"/>
              <a:ext cx="533520" cy="510120"/>
              <a:chOff x="7467480" y="1447920"/>
              <a:chExt cx="533520" cy="510120"/>
            </a:xfrm>
          </p:grpSpPr>
          <p:sp>
            <p:nvSpPr>
              <p:cNvPr id="551" name=""/>
              <p:cNvSpPr/>
              <p:nvPr/>
            </p:nvSpPr>
            <p:spPr>
              <a:xfrm>
                <a:off x="7467480" y="14479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467480" y="144792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mmi10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858000" y="1447920"/>
              <a:ext cx="533520" cy="510120"/>
              <a:chOff x="6858000" y="1447920"/>
              <a:chExt cx="533520" cy="510120"/>
            </a:xfrm>
          </p:grpSpPr>
          <p:sp>
            <p:nvSpPr>
              <p:cNvPr id="554" name=""/>
              <p:cNvSpPr/>
              <p:nvPr/>
            </p:nvSpPr>
            <p:spPr>
              <a:xfrm>
                <a:off x="6858000" y="14479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58000" y="144792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mmi10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848720" y="533520"/>
              <a:ext cx="571320" cy="484920"/>
              <a:chOff x="7848720" y="533520"/>
              <a:chExt cx="571320" cy="484920"/>
            </a:xfrm>
          </p:grpSpPr>
          <p:sp>
            <p:nvSpPr>
              <p:cNvPr id="557" name=""/>
              <p:cNvSpPr/>
              <p:nvPr/>
            </p:nvSpPr>
            <p:spPr>
              <a:xfrm>
                <a:off x="7848720" y="5335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886880" y="558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8381880" y="1447920"/>
              <a:ext cx="533520" cy="510120"/>
              <a:chOff x="8381880" y="1447920"/>
              <a:chExt cx="533520" cy="510120"/>
            </a:xfrm>
          </p:grpSpPr>
          <p:sp>
            <p:nvSpPr>
              <p:cNvPr id="560" name=""/>
              <p:cNvSpPr/>
              <p:nvPr/>
            </p:nvSpPr>
            <p:spPr>
              <a:xfrm>
                <a:off x="8381880" y="14479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381880" y="144792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mi10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mmi10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flipH="1">
              <a:off x="7162920" y="990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695720" y="99072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9907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24680" y="1447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6854760" y="3246480"/>
            <a:ext cx="15811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ctivation and Semantic Categor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xby et al. (2001)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howed differences due to semantic category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 et al. (2003): Trained SVM to distinguish semantic categori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ccuracies similar when tested on data collected a week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hai et al. (1999): Found activation differences for both photos and words, but less reliable fo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y? To Help Build General Models of Cognitive Proce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571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762120" y="990720"/>
            <a:ext cx="4114800" cy="1371600"/>
            <a:chOff x="762120" y="990720"/>
            <a:chExt cx="4114800" cy="1371600"/>
          </a:xfrm>
        </p:grpSpPr>
        <p:sp>
          <p:nvSpPr>
            <p:cNvPr id="574" name=""/>
            <p:cNvSpPr/>
            <p:nvPr/>
          </p:nvSpPr>
          <p:spPr>
            <a:xfrm>
              <a:off x="1143000" y="137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66680" y="9907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Read 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17528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28800" y="13719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Decid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ateg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66880" y="18291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Push but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43200" y="2210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120" y="990720"/>
              <a:ext cx="41148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048120" y="2666880"/>
            <a:ext cx="4952880" cy="1828800"/>
            <a:chOff x="3048120" y="2666880"/>
            <a:chExt cx="4952880" cy="1828800"/>
          </a:xfrm>
        </p:grpSpPr>
        <p:grpSp>
          <p:nvGrpSpPr>
            <p:cNvPr id="582" name=""/>
            <p:cNvGrpSpPr/>
            <p:nvPr/>
          </p:nvGrpSpPr>
          <p:grpSpPr>
            <a:xfrm>
              <a:off x="3200400" y="2743200"/>
              <a:ext cx="4496040" cy="1541880"/>
              <a:chOff x="3200400" y="2743200"/>
              <a:chExt cx="4496040" cy="1541880"/>
            </a:xfrm>
          </p:grpSpPr>
          <p:sp>
            <p:nvSpPr>
              <p:cNvPr id="583" name=""/>
              <p:cNvSpPr/>
              <p:nvPr/>
            </p:nvSpPr>
            <p:spPr>
              <a:xfrm>
                <a:off x="3200400" y="27432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48320" y="27432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10240" y="3124080"/>
                <a:ext cx="2438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Comprehen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sen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48320" y="350532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ecid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tru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91320" y="388620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ush butt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7640" y="42670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53240" y="38862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276720" y="31240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24640" y="31240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886200" y="350532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3048120" y="2666880"/>
              <a:ext cx="49528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90720" y="4800600"/>
            <a:ext cx="6476760" cy="1828800"/>
            <a:chOff x="990720" y="4800600"/>
            <a:chExt cx="6476760" cy="1828800"/>
          </a:xfrm>
        </p:grpSpPr>
        <p:grpSp>
          <p:nvGrpSpPr>
            <p:cNvPr id="595" name=""/>
            <p:cNvGrpSpPr/>
            <p:nvPr/>
          </p:nvGrpSpPr>
          <p:grpSpPr>
            <a:xfrm>
              <a:off x="1066680" y="4873680"/>
              <a:ext cx="6172200" cy="1701000"/>
              <a:chOff x="1066680" y="4873680"/>
              <a:chExt cx="6172200" cy="170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218960" y="566928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57240" y="523512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05160" y="52351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504960" y="48736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952880" y="48736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ead 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066680" y="5307480"/>
                <a:ext cx="243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Comprehen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pic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62160" y="5307480"/>
                <a:ext cx="2438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Comprehend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n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14440" y="566928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495680" y="574164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ecid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pic=?=s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95680" y="610344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33760" y="617580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ush butt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10080" y="653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990720" y="4800600"/>
              <a:ext cx="647676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. What next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mediate Cognitive Modeling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C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couple ML methods directly to Cognitive Arch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languages/constraints of cognitive architectures to languages/constraints of learn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chine Learning methods to evaluate and refine temporal proc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ssumptions of…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gnitiv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escribed in terms of substeps (rules, networks, it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to cortical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ub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-driven recruitment of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al resourc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ar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sequenc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able learning (tradeoff complexity of hypotheses vs. volume of training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d form of functions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d independencies among learne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09480" y="914400"/>
            <a:ext cx="18288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gnitive Sub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ew pi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senten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e sentence and Pi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ide to press “yes” butt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or action to press “yes” butt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7672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148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3392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248520" y="33526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114300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62480" y="1143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62480" y="2362320"/>
            <a:ext cx="39384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895480"/>
            <a:ext cx="30456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0" y="3352680"/>
            <a:ext cx="45720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33520" y="3952800"/>
            <a:ext cx="7391160" cy="2628360"/>
            <a:chOff x="533520" y="3952800"/>
            <a:chExt cx="7391160" cy="2628360"/>
          </a:xfrm>
        </p:grpSpPr>
        <p:sp>
          <p:nvSpPr>
            <p:cNvPr id="629" name=""/>
            <p:cNvSpPr/>
            <p:nvPr/>
          </p:nvSpPr>
          <p:spPr>
            <a:xfrm>
              <a:off x="533520" y="4114800"/>
              <a:ext cx="182880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bserved fMR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tical region 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tical region 2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bserved button pr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23880" y="6324480"/>
              <a:ext cx="6400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1"/>
            <a:srcRect l="12840" t="19277" r="64539" b="67097"/>
            <a:stretch/>
          </p:blipFill>
          <p:spPr>
            <a:xfrm>
              <a:off x="2095560" y="4559400"/>
              <a:ext cx="57150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"/>
            <a:srcRect l="12810" t="81133" r="64669" b="0"/>
            <a:stretch/>
          </p:blipFill>
          <p:spPr>
            <a:xfrm>
              <a:off x="2050920" y="5334120"/>
              <a:ext cx="56898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 rot="5377800">
              <a:off x="2958840" y="3288960"/>
              <a:ext cx="304560" cy="21081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4720 h 2108160"/>
                <a:gd name="textAreaBottom" fmla="*/ 2053440 h 21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377800">
              <a:off x="4482720" y="4127400"/>
              <a:ext cx="304920" cy="21081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4720 h 2108160"/>
                <a:gd name="textAreaBottom" fmla="*/ 2053440 h 21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377800">
              <a:off x="4883040" y="2584440"/>
              <a:ext cx="304560" cy="3060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9560 h 3060720"/>
                <a:gd name="textAreaBottom" fmla="*/ 2981160 h 30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377800">
              <a:off x="6235560" y="3288960"/>
              <a:ext cx="304560" cy="21081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4720 h 2108160"/>
                <a:gd name="textAreaBottom" fmla="*/ 2053440 h 21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781680" y="59436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377800">
              <a:off x="7124040" y="4610160"/>
              <a:ext cx="304920" cy="11430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990720" y="4724280"/>
              <a:ext cx="674640" cy="685800"/>
              <a:chOff x="990720" y="4724280"/>
              <a:chExt cx="674640" cy="685800"/>
            </a:xfrm>
          </p:grpSpPr>
          <p:pic>
            <p:nvPicPr>
              <p:cNvPr id="6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4724280"/>
                <a:ext cx="674640" cy="685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1359720" y="4861080"/>
                <a:ext cx="71280" cy="154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71600" y="5134320"/>
                <a:ext cx="13680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 ICML tr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380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380880"/>
            <a:ext cx="3733920" cy="25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are Sentence and Pi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: “The plus is above the star.”, pictur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Time: 8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Time: 9-1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ort: ViewPicture.content, ReadSent.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rt: tentativeResult (to ReadS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put: &lt;involves only ROI’s 3,5,9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posed (draft) ICML 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 set of gener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nitive pro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, ‘read sentence’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meters (e.g., stimu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tTime, EndTime, MileStoneTim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, Ex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meters (e.g. describing communication with other proc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predicts observable fMRI, behavioral, data based 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architecture provides a trace of cognitive processes by instantiating above parameter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s the probabilist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_function(input,import,…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data likelihood for each given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changes to cognitive trace that would improve data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-353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to parameter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-353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stances of know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gnitive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-353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 of known process into subject-specific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ayesian State-Space Mode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rcRect l="13230" t="14072" r="6950" b="46010"/>
          <a:stretch/>
        </p:blipFill>
        <p:spPr>
          <a:xfrm>
            <a:off x="1981080" y="1981080"/>
            <a:ext cx="6782040" cy="381024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44792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M’s, DBNs, etc. e.g., [Ghahramani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280" y="20574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subprocesses / stat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ental Rotation of Imagined Objec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47137" t="16321" r="19661" b="31599"/>
          <a:stretch/>
        </p:blipFill>
        <p:spPr>
          <a:xfrm>
            <a:off x="5575320" y="1066680"/>
            <a:ext cx="3238560" cy="38102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943600" y="5181480"/>
            <a:ext cx="2806560" cy="1078200"/>
            <a:chOff x="5943600" y="5181480"/>
            <a:chExt cx="2806560" cy="1078200"/>
          </a:xfrm>
        </p:grpSpPr>
        <p:sp>
          <p:nvSpPr>
            <p:cNvPr id="63" name=""/>
            <p:cNvSpPr/>
            <p:nvPr/>
          </p:nvSpPr>
          <p:spPr>
            <a:xfrm>
              <a:off x="6172200" y="5181480"/>
              <a:ext cx="257796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ock r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hephard-Metz r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6840" y="5287680"/>
              <a:ext cx="139680" cy="14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5656320"/>
              <a:ext cx="139680" cy="139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5986440"/>
              <a:ext cx="139680" cy="1396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16979" t="44402" r="54064" b="36982"/>
          <a:stretch/>
        </p:blipFill>
        <p:spPr>
          <a:xfrm>
            <a:off x="380880" y="3606840"/>
            <a:ext cx="5029200" cy="258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18100" t="26564" r="17708" b="27952"/>
          <a:stretch/>
        </p:blipFill>
        <p:spPr>
          <a:xfrm>
            <a:off x="1219320" y="1523880"/>
            <a:ext cx="3378240" cy="17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75320" y="76212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Just, et al., 200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4800" y="487692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xels significantly active d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ey Challeng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when multiple cognitive processes overlap in contributing to observed fMRI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nvolution to estimate relative contributions [Indrayana Rustand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from (partially) unlabeled data (cognitive states not kn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HMM training with incomplete labels [Rebecca Hutchins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Can be Incorporate Knowledge of fMRI Hemodynamic Response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d fact about fMRI: Impulse of neural activity causes prolonged fMRI respon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rcRect l="28140" t="15219" r="28140" b="3621"/>
          <a:stretch/>
        </p:blipFill>
        <p:spPr>
          <a:xfrm>
            <a:off x="2743200" y="274320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rot="16200000">
            <a:off x="1730880" y="383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5867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(seco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rcRect l="10661" t="24180" r="8557" b="4028"/>
          <a:stretch/>
        </p:blipFill>
        <p:spPr>
          <a:xfrm>
            <a:off x="609480" y="914400"/>
            <a:ext cx="7794720" cy="24890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1600200" y="304920"/>
            <a:ext cx="56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I, Words every 16 seconds.                                                                      Mean LFEF, subj 08179, trials 5(noun), 6(noun), 7(verb),8(noun),9(verb)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rcRect l="8704" t="24495" r="30566" b="7100"/>
          <a:stretch/>
        </p:blipFill>
        <p:spPr>
          <a:xfrm>
            <a:off x="3048120" y="3657600"/>
            <a:ext cx="3200400" cy="25178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19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5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670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7160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Ph I respon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rcRect l="10661" t="24180" r="8557" b="4028"/>
          <a:stretch/>
        </p:blipFill>
        <p:spPr>
          <a:xfrm>
            <a:off x="609480" y="914400"/>
            <a:ext cx="7794720" cy="248904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600200" y="304920"/>
            <a:ext cx="56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I, Words every 16 seconds.                                                                      Mean LFEF, subj 08179, trials 5(noun), 6(noun), 7(verb),8(noun),9(verb)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73200" y="3530520"/>
            <a:ext cx="7785000" cy="3022560"/>
            <a:chOff x="673200" y="3530520"/>
            <a:chExt cx="7785000" cy="3022560"/>
          </a:xfrm>
        </p:grpSpPr>
        <p:pic>
          <p:nvPicPr>
            <p:cNvPr id="672" name="" descr=""/>
            <p:cNvPicPr/>
            <p:nvPr/>
          </p:nvPicPr>
          <p:blipFill>
            <a:blip r:embed="rId2"/>
            <a:srcRect l="10541" t="24109" r="8696" b="4754"/>
            <a:stretch/>
          </p:blipFill>
          <p:spPr>
            <a:xfrm>
              <a:off x="673200" y="4079880"/>
              <a:ext cx="7785000" cy="24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1612800" y="3530520"/>
              <a:ext cx="560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ase II, Words every 3 seconds.                                                                      Mean LFEF, subj 081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dea: Estimate Impulse Response from multiple overlapping trials 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overlapping responses sum lin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maximum-likelihood estimates of impulse response per stimulu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[Dale, 1999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man Brain 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4920" y="1371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Indrayana Rustand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762120" y="2362320"/>
            <a:ext cx="7785000" cy="3022560"/>
            <a:chOff x="762120" y="2362320"/>
            <a:chExt cx="7785000" cy="3022560"/>
          </a:xfrm>
        </p:grpSpPr>
        <p:pic>
          <p:nvPicPr>
            <p:cNvPr id="678" name="" descr=""/>
            <p:cNvPicPr/>
            <p:nvPr/>
          </p:nvPicPr>
          <p:blipFill>
            <a:blip r:embed="rId1"/>
            <a:srcRect l="10541" t="24109" r="8696" b="4754"/>
            <a:stretch/>
          </p:blipFill>
          <p:spPr>
            <a:xfrm>
              <a:off x="762120" y="2911680"/>
              <a:ext cx="7785000" cy="24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1701720" y="2362320"/>
              <a:ext cx="560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ase II, Words every 3 seconds.                                                                      Mean LFEF, subj 081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Noun and Verb impulse response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rcRect l="313" t="13282" r="12500" b="7553"/>
          <a:stretch/>
        </p:blipFill>
        <p:spPr>
          <a:xfrm>
            <a:off x="380880" y="395280"/>
            <a:ext cx="8483760" cy="6162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0" y="266688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819520"/>
            <a:ext cx="9144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ual Mean Noun PhI,                Estimated Mean Noun PhII (OLS)             Estimated Mean Noun PhII (G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ual Mean Verb PhI.                 Estimated Mean Verb  PhII (OLS)             Estimated Mean Noun PhII (G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77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idden Markov Models to track sequences of cognitive states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[Rebecca Hutchinson]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46240" y="2603520"/>
            <a:ext cx="1803600" cy="6602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22560" y="3645000"/>
            <a:ext cx="1803600" cy="660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8400" y="2540160"/>
            <a:ext cx="1803600" cy="660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2760" y="264168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49160" y="3683160"/>
            <a:ext cx="1803600" cy="6602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378468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74000" y="3048120"/>
            <a:ext cx="1803240" cy="660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3086280"/>
            <a:ext cx="1803240" cy="660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0" y="3187800"/>
            <a:ext cx="23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16200" y="270504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06560" y="3746520"/>
            <a:ext cx="23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69120" y="313380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02000" y="28702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52760" y="4000680"/>
            <a:ext cx="48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800600" y="3619440"/>
            <a:ext cx="3808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49840" y="2997360"/>
            <a:ext cx="40644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845400" y="3403440"/>
            <a:ext cx="228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1" idx="0"/>
            <a:endCxn id="687" idx="0"/>
          </p:cNvCxnSpPr>
          <p:nvPr/>
        </p:nvCxnSpPr>
        <p:spPr>
          <a:xfrm flipV="1" rot="16200000">
            <a:off x="4533120" y="-394200"/>
            <a:ext cx="508680" cy="6375960"/>
          </a:xfrm>
          <a:prstGeom prst="curvedConnector5">
            <a:avLst>
              <a:gd name="adj1" fmla="val 144971"/>
              <a:gd name="adj2" fmla="val 50000"/>
              <a:gd name="adj3" fmla="val 144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1" idx="4"/>
            <a:endCxn id="689" idx="4"/>
          </p:cNvCxnSpPr>
          <p:nvPr/>
        </p:nvCxnSpPr>
        <p:spPr>
          <a:xfrm rot="5400000">
            <a:off x="4494960" y="863640"/>
            <a:ext cx="635760" cy="6325200"/>
          </a:xfrm>
          <a:prstGeom prst="curvedConnector5">
            <a:avLst>
              <a:gd name="adj1" fmla="val 135977"/>
              <a:gd name="adj2" fmla="val 49997"/>
              <a:gd name="adj3" fmla="val 135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85" idx="6"/>
            <a:endCxn id="685" idx="0"/>
          </p:cNvCxnSpPr>
          <p:nvPr/>
        </p:nvCxnSpPr>
        <p:spPr>
          <a:xfrm flipH="1" flipV="1">
            <a:off x="3847320" y="2602800"/>
            <a:ext cx="902520" cy="330840"/>
          </a:xfrm>
          <a:prstGeom prst="curvedConnector5">
            <a:avLst>
              <a:gd name="adj1" fmla="val -25339"/>
              <a:gd name="adj2" fmla="val 84531"/>
              <a:gd name="adj3" fmla="val -253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86" idx="6"/>
            <a:endCxn id="686" idx="4"/>
          </p:cNvCxnSpPr>
          <p:nvPr/>
        </p:nvCxnSpPr>
        <p:spPr>
          <a:xfrm flipH="1">
            <a:off x="3923640" y="3974760"/>
            <a:ext cx="902520" cy="330840"/>
          </a:xfrm>
          <a:prstGeom prst="curvedConnector5">
            <a:avLst>
              <a:gd name="adj1" fmla="val -25339"/>
              <a:gd name="adj2" fmla="val 84531"/>
              <a:gd name="adj3" fmla="val -253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06" name=""/>
          <p:cNvGrpSpPr/>
          <p:nvPr/>
        </p:nvGrpSpPr>
        <p:grpSpPr>
          <a:xfrm>
            <a:off x="1368360" y="5621400"/>
            <a:ext cx="698400" cy="640800"/>
            <a:chOff x="1368360" y="5621400"/>
            <a:chExt cx="698400" cy="640800"/>
          </a:xfrm>
        </p:grpSpPr>
        <p:sp>
          <p:nvSpPr>
            <p:cNvPr id="707" name=""/>
            <p:cNvSpPr/>
            <p:nvPr/>
          </p:nvSpPr>
          <p:spPr>
            <a:xfrm flipV="1">
              <a:off x="1628280" y="57106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1"/>
            <a:stretch/>
          </p:blipFill>
          <p:spPr>
            <a:xfrm>
              <a:off x="1368360" y="57153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9" name="" descr=""/>
            <p:cNvPicPr/>
            <p:nvPr/>
          </p:nvPicPr>
          <p:blipFill>
            <a:blip r:embed="rId2"/>
            <a:stretch/>
          </p:blipFill>
          <p:spPr>
            <a:xfrm>
              <a:off x="1434960" y="56732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10" name="" descr=""/>
            <p:cNvPicPr/>
            <p:nvPr/>
          </p:nvPicPr>
          <p:blipFill>
            <a:blip r:embed="rId3"/>
            <a:stretch/>
          </p:blipFill>
          <p:spPr>
            <a:xfrm>
              <a:off x="1505160" y="56214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1" name=""/>
          <p:cNvGrpSpPr/>
          <p:nvPr/>
        </p:nvGrpSpPr>
        <p:grpSpPr>
          <a:xfrm>
            <a:off x="5445000" y="5581800"/>
            <a:ext cx="698760" cy="640800"/>
            <a:chOff x="5445000" y="5581800"/>
            <a:chExt cx="698760" cy="640800"/>
          </a:xfrm>
        </p:grpSpPr>
        <p:sp>
          <p:nvSpPr>
            <p:cNvPr id="712" name=""/>
            <p:cNvSpPr/>
            <p:nvPr/>
          </p:nvSpPr>
          <p:spPr>
            <a:xfrm flipV="1">
              <a:off x="5705280" y="5671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3" name="" descr=""/>
            <p:cNvPicPr/>
            <p:nvPr/>
          </p:nvPicPr>
          <p:blipFill>
            <a:blip r:embed="rId4"/>
            <a:stretch/>
          </p:blipFill>
          <p:spPr>
            <a:xfrm>
              <a:off x="5445000" y="5675760"/>
              <a:ext cx="5403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14" name="" descr=""/>
            <p:cNvPicPr/>
            <p:nvPr/>
          </p:nvPicPr>
          <p:blipFill>
            <a:blip r:embed="rId5"/>
            <a:stretch/>
          </p:blipFill>
          <p:spPr>
            <a:xfrm>
              <a:off x="5511600" y="5633640"/>
              <a:ext cx="5619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15" name="" descr=""/>
            <p:cNvPicPr/>
            <p:nvPr/>
          </p:nvPicPr>
          <p:blipFill>
            <a:blip r:embed="rId6"/>
            <a:stretch/>
          </p:blipFill>
          <p:spPr>
            <a:xfrm>
              <a:off x="5581800" y="558180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3044880" y="5608800"/>
            <a:ext cx="698400" cy="640800"/>
            <a:chOff x="3044880" y="5608800"/>
            <a:chExt cx="698400" cy="640800"/>
          </a:xfrm>
        </p:grpSpPr>
        <p:sp>
          <p:nvSpPr>
            <p:cNvPr id="717" name=""/>
            <p:cNvSpPr/>
            <p:nvPr/>
          </p:nvSpPr>
          <p:spPr>
            <a:xfrm flipV="1">
              <a:off x="3304800" y="5698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7"/>
            <a:stretch/>
          </p:blipFill>
          <p:spPr>
            <a:xfrm>
              <a:off x="3044880" y="57027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19" name="" descr=""/>
            <p:cNvPicPr/>
            <p:nvPr/>
          </p:nvPicPr>
          <p:blipFill>
            <a:blip r:embed="rId8"/>
            <a:stretch/>
          </p:blipFill>
          <p:spPr>
            <a:xfrm>
              <a:off x="3111480" y="56606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20" name="" descr=""/>
            <p:cNvPicPr/>
            <p:nvPr/>
          </p:nvPicPr>
          <p:blipFill>
            <a:blip r:embed="rId9"/>
            <a:stretch/>
          </p:blipFill>
          <p:spPr>
            <a:xfrm>
              <a:off x="3181680" y="56088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21" name=""/>
          <p:cNvGrpSpPr/>
          <p:nvPr/>
        </p:nvGrpSpPr>
        <p:grpSpPr>
          <a:xfrm>
            <a:off x="2232000" y="5632560"/>
            <a:ext cx="698400" cy="640800"/>
            <a:chOff x="2232000" y="5632560"/>
            <a:chExt cx="698400" cy="640800"/>
          </a:xfrm>
        </p:grpSpPr>
        <p:sp>
          <p:nvSpPr>
            <p:cNvPr id="722" name=""/>
            <p:cNvSpPr/>
            <p:nvPr/>
          </p:nvSpPr>
          <p:spPr>
            <a:xfrm flipV="1">
              <a:off x="2491920" y="572184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3" name="" descr=""/>
            <p:cNvPicPr/>
            <p:nvPr/>
          </p:nvPicPr>
          <p:blipFill>
            <a:blip r:embed="rId10"/>
            <a:stretch/>
          </p:blipFill>
          <p:spPr>
            <a:xfrm>
              <a:off x="2232000" y="572652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24" name="" descr=""/>
            <p:cNvPicPr/>
            <p:nvPr/>
          </p:nvPicPr>
          <p:blipFill>
            <a:blip r:embed="rId11"/>
            <a:stretch/>
          </p:blipFill>
          <p:spPr>
            <a:xfrm>
              <a:off x="2298600" y="568440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25" name="" descr=""/>
            <p:cNvPicPr/>
            <p:nvPr/>
          </p:nvPicPr>
          <p:blipFill>
            <a:blip r:embed="rId12"/>
            <a:stretch/>
          </p:blipFill>
          <p:spPr>
            <a:xfrm>
              <a:off x="2368800" y="563256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26" name=""/>
          <p:cNvGrpSpPr/>
          <p:nvPr/>
        </p:nvGrpSpPr>
        <p:grpSpPr>
          <a:xfrm>
            <a:off x="3857760" y="5621400"/>
            <a:ext cx="698400" cy="640800"/>
            <a:chOff x="3857760" y="5621400"/>
            <a:chExt cx="698400" cy="640800"/>
          </a:xfrm>
        </p:grpSpPr>
        <p:sp>
          <p:nvSpPr>
            <p:cNvPr id="727" name=""/>
            <p:cNvSpPr/>
            <p:nvPr/>
          </p:nvSpPr>
          <p:spPr>
            <a:xfrm flipV="1">
              <a:off x="4117680" y="57106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13"/>
            <a:stretch/>
          </p:blipFill>
          <p:spPr>
            <a:xfrm>
              <a:off x="3857760" y="57153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29" name="" descr=""/>
            <p:cNvPicPr/>
            <p:nvPr/>
          </p:nvPicPr>
          <p:blipFill>
            <a:blip r:embed="rId14"/>
            <a:stretch/>
          </p:blipFill>
          <p:spPr>
            <a:xfrm>
              <a:off x="3924360" y="56732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0" name="" descr=""/>
            <p:cNvPicPr/>
            <p:nvPr/>
          </p:nvPicPr>
          <p:blipFill>
            <a:blip r:embed="rId15"/>
            <a:stretch/>
          </p:blipFill>
          <p:spPr>
            <a:xfrm>
              <a:off x="3994560" y="56214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31" name=""/>
          <p:cNvGrpSpPr/>
          <p:nvPr/>
        </p:nvGrpSpPr>
        <p:grpSpPr>
          <a:xfrm>
            <a:off x="4632480" y="5608800"/>
            <a:ext cx="698400" cy="640800"/>
            <a:chOff x="4632480" y="5608800"/>
            <a:chExt cx="698400" cy="640800"/>
          </a:xfrm>
        </p:grpSpPr>
        <p:sp>
          <p:nvSpPr>
            <p:cNvPr id="732" name=""/>
            <p:cNvSpPr/>
            <p:nvPr/>
          </p:nvSpPr>
          <p:spPr>
            <a:xfrm flipV="1">
              <a:off x="4892400" y="5698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3" name="" descr=""/>
            <p:cNvPicPr/>
            <p:nvPr/>
          </p:nvPicPr>
          <p:blipFill>
            <a:blip r:embed="rId16"/>
            <a:stretch/>
          </p:blipFill>
          <p:spPr>
            <a:xfrm>
              <a:off x="4632480" y="57027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4" name="" descr=""/>
            <p:cNvPicPr/>
            <p:nvPr/>
          </p:nvPicPr>
          <p:blipFill>
            <a:blip r:embed="rId17"/>
            <a:stretch/>
          </p:blipFill>
          <p:spPr>
            <a:xfrm>
              <a:off x="4699080" y="56606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5" name="" descr=""/>
            <p:cNvPicPr/>
            <p:nvPr/>
          </p:nvPicPr>
          <p:blipFill>
            <a:blip r:embed="rId18"/>
            <a:stretch/>
          </p:blipFill>
          <p:spPr>
            <a:xfrm>
              <a:off x="4769280" y="56088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36" name=""/>
          <p:cNvGrpSpPr/>
          <p:nvPr/>
        </p:nvGrpSpPr>
        <p:grpSpPr>
          <a:xfrm>
            <a:off x="542880" y="5619600"/>
            <a:ext cx="698400" cy="641520"/>
            <a:chOff x="542880" y="5619600"/>
            <a:chExt cx="698400" cy="641520"/>
          </a:xfrm>
        </p:grpSpPr>
        <p:sp>
          <p:nvSpPr>
            <p:cNvPr id="737" name=""/>
            <p:cNvSpPr/>
            <p:nvPr/>
          </p:nvSpPr>
          <p:spPr>
            <a:xfrm flipV="1">
              <a:off x="802800" y="57088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8" name="" descr=""/>
            <p:cNvPicPr/>
            <p:nvPr/>
          </p:nvPicPr>
          <p:blipFill>
            <a:blip r:embed="rId19"/>
            <a:stretch/>
          </p:blipFill>
          <p:spPr>
            <a:xfrm>
              <a:off x="542880" y="571392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9" name="" descr=""/>
            <p:cNvPicPr/>
            <p:nvPr/>
          </p:nvPicPr>
          <p:blipFill>
            <a:blip r:embed="rId20"/>
            <a:stretch/>
          </p:blipFill>
          <p:spPr>
            <a:xfrm>
              <a:off x="609480" y="56714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40" name="" descr=""/>
            <p:cNvPicPr/>
            <p:nvPr/>
          </p:nvPicPr>
          <p:blipFill>
            <a:blip r:embed="rId21"/>
            <a:stretch/>
          </p:blipFill>
          <p:spPr>
            <a:xfrm>
              <a:off x="679680" y="56196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41" name=""/>
          <p:cNvSpPr/>
          <p:nvPr/>
        </p:nvSpPr>
        <p:spPr>
          <a:xfrm>
            <a:off x="2133720" y="64008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08360" y="4330800"/>
            <a:ext cx="15228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48040" y="5270400"/>
            <a:ext cx="2527200" cy="13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06760" y="4254480"/>
            <a:ext cx="176544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4600" y="5283360"/>
            <a:ext cx="3289320" cy="13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31640" y="4267080"/>
            <a:ext cx="77472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76440" y="4152960"/>
            <a:ext cx="113040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69360" y="5181480"/>
            <a:ext cx="15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162920" y="5562720"/>
            <a:ext cx="698400" cy="640800"/>
            <a:chOff x="7162920" y="5562720"/>
            <a:chExt cx="698400" cy="640800"/>
          </a:xfrm>
        </p:grpSpPr>
        <p:sp>
          <p:nvSpPr>
            <p:cNvPr id="750" name=""/>
            <p:cNvSpPr/>
            <p:nvPr/>
          </p:nvSpPr>
          <p:spPr>
            <a:xfrm flipV="1">
              <a:off x="7422840" y="565200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22"/>
            <a:stretch/>
          </p:blipFill>
          <p:spPr>
            <a:xfrm>
              <a:off x="7162920" y="565668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2" name="" descr=""/>
            <p:cNvPicPr/>
            <p:nvPr/>
          </p:nvPicPr>
          <p:blipFill>
            <a:blip r:embed="rId23"/>
            <a:stretch/>
          </p:blipFill>
          <p:spPr>
            <a:xfrm>
              <a:off x="7229520" y="561456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3" name="" descr=""/>
            <p:cNvPicPr/>
            <p:nvPr/>
          </p:nvPicPr>
          <p:blipFill>
            <a:blip r:embed="rId24"/>
            <a:stretch/>
          </p:blipFill>
          <p:spPr>
            <a:xfrm>
              <a:off x="7299720" y="55627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54" name=""/>
          <p:cNvGrpSpPr/>
          <p:nvPr/>
        </p:nvGrpSpPr>
        <p:grpSpPr>
          <a:xfrm>
            <a:off x="6324480" y="5562720"/>
            <a:ext cx="698760" cy="640800"/>
            <a:chOff x="6324480" y="5562720"/>
            <a:chExt cx="698760" cy="640800"/>
          </a:xfrm>
        </p:grpSpPr>
        <p:sp>
          <p:nvSpPr>
            <p:cNvPr id="755" name=""/>
            <p:cNvSpPr/>
            <p:nvPr/>
          </p:nvSpPr>
          <p:spPr>
            <a:xfrm flipV="1">
              <a:off x="6584760" y="565200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25"/>
            <a:stretch/>
          </p:blipFill>
          <p:spPr>
            <a:xfrm>
              <a:off x="6324480" y="5656680"/>
              <a:ext cx="5403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7" name="" descr=""/>
            <p:cNvPicPr/>
            <p:nvPr/>
          </p:nvPicPr>
          <p:blipFill>
            <a:blip r:embed="rId26"/>
            <a:stretch/>
          </p:blipFill>
          <p:spPr>
            <a:xfrm>
              <a:off x="6391080" y="5614560"/>
              <a:ext cx="5619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8" name="" descr=""/>
            <p:cNvPicPr/>
            <p:nvPr/>
          </p:nvPicPr>
          <p:blipFill>
            <a:blip r:embed="rId27"/>
            <a:stretch/>
          </p:blipFill>
          <p:spPr>
            <a:xfrm>
              <a:off x="6461280" y="556272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59" name=""/>
          <p:cNvSpPr/>
          <p:nvPr/>
        </p:nvSpPr>
        <p:spPr>
          <a:xfrm>
            <a:off x="746748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3915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Experiments – HMM vs. GNBay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330200"/>
            <a:ext cx="824724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ecture: Compared to classifiers, HMM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re accurate classification/tracking of multiple states acros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learning from unlabeled fMRI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HMM with GNB on Picture-Sente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probabilistic model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B generativ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M emiss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training using mixed labeled and unlabel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762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Rebecca Hutchins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rcRect l="10822" t="12912" r="11607" b="2318"/>
          <a:stretch/>
        </p:blipFill>
        <p:spPr>
          <a:xfrm>
            <a:off x="838080" y="762120"/>
            <a:ext cx="75438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distinguish brief cognitive processes using fMR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152280"/>
            <a:chOff x="0" y="0"/>
            <a:chExt cx="9144000" cy="1522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0" t="0" r="18553" b="0"/>
            <a:stretch/>
          </p:blipFill>
          <p:spPr>
            <a:xfrm>
              <a:off x="3121200" y="0"/>
              <a:ext cx="60228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15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3"/>
          <a:srcRect l="12840" t="19277" r="64539" b="67097"/>
          <a:stretch/>
        </p:blipFill>
        <p:spPr>
          <a:xfrm>
            <a:off x="1523880" y="426708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7893" t="26538" r="5985" b="38277"/>
          <a:stretch/>
        </p:blipFill>
        <p:spPr>
          <a:xfrm>
            <a:off x="3581280" y="3886200"/>
            <a:ext cx="1676520" cy="328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41972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2895480"/>
            <a:ext cx="274320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 noun or ve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rcRect l="12810" t="81133" r="64669" b="0"/>
          <a:stretch/>
        </p:blipFill>
        <p:spPr>
          <a:xfrm>
            <a:off x="1492200" y="4660920"/>
            <a:ext cx="568980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4419720" y="26665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3733920"/>
            <a:ext cx="2057400" cy="2253240"/>
            <a:chOff x="0" y="3733920"/>
            <a:chExt cx="2057400" cy="2253240"/>
          </a:xfrm>
        </p:grpSpPr>
        <p:sp>
          <p:nvSpPr>
            <p:cNvPr id="82" name=""/>
            <p:cNvSpPr/>
            <p:nvPr/>
          </p:nvSpPr>
          <p:spPr>
            <a:xfrm>
              <a:off x="0" y="3733920"/>
              <a:ext cx="2057400" cy="22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bserved fMR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tical region 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tical region 2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685800" y="4343040"/>
              <a:ext cx="674640" cy="685440"/>
              <a:chOff x="685800" y="4343040"/>
              <a:chExt cx="674640" cy="685440"/>
            </a:xfrm>
          </p:grpSpPr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5800" y="4343040"/>
                <a:ext cx="674640" cy="685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1054800" y="4479840"/>
                <a:ext cx="71280" cy="154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66680" y="4752720"/>
                <a:ext cx="13680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ome Design Choices for State Space Mode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62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s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or continu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tates, or factored into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 state function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time or discret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or non-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ov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ly o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variables depen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 to output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ly o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also o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 variables combine to produc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noise in O mode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model of fMRI BOLD response in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to State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or discrete stimulus influence o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09480" y="914400"/>
            <a:ext cx="18288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gnitive Sub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ew pi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senten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e sentence and Pi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ide to press “yes” butt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or action to press “yes” butt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71880" y="1676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86240" y="19810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148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520" y="4114800"/>
            <a:ext cx="18288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tical region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tical region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served button pres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23880" y="6324480"/>
            <a:ext cx="6400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rcRect l="12840" t="19277" r="64539" b="67097"/>
          <a:stretch/>
        </p:blipFill>
        <p:spPr>
          <a:xfrm>
            <a:off x="2095560" y="45594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rcRect l="12810" t="81133" r="64669" b="0"/>
          <a:stretch/>
        </p:blipFill>
        <p:spPr>
          <a:xfrm>
            <a:off x="2050920" y="53341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438280" y="1676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5377800">
            <a:off x="295884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377800">
            <a:off x="4482720" y="41274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733920" y="1981080"/>
            <a:ext cx="774720" cy="299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48520" y="33526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114300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2480" y="1143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62480" y="2362320"/>
            <a:ext cx="39384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377800">
            <a:off x="4883040" y="25844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5377800">
            <a:off x="6235560" y="32889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19920" y="2895480"/>
            <a:ext cx="30456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3352680"/>
            <a:ext cx="45720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6781680" y="5943600"/>
            <a:ext cx="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377800">
            <a:off x="7124040" y="461016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8168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990720" y="4724280"/>
            <a:ext cx="674640" cy="685800"/>
            <a:chOff x="990720" y="4724280"/>
            <a:chExt cx="674640" cy="685800"/>
          </a:xfrm>
        </p:grpSpPr>
        <p:pic>
          <p:nvPicPr>
            <p:cNvPr id="793" name="" descr=""/>
            <p:cNvPicPr/>
            <p:nvPr/>
          </p:nvPicPr>
          <p:blipFill>
            <a:blip r:embed="rId3"/>
            <a:stretch/>
          </p:blipFill>
          <p:spPr>
            <a:xfrm>
              <a:off x="990720" y="472428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94" name=""/>
            <p:cNvSpPr/>
            <p:nvPr/>
          </p:nvSpPr>
          <p:spPr>
            <a:xfrm>
              <a:off x="1359720" y="4861080"/>
              <a:ext cx="71280" cy="154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71600" y="5134320"/>
              <a:ext cx="136800" cy="6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 ICML tr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43600" y="380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81480" y="380880"/>
            <a:ext cx="3733920" cy="25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are Sentence and Pi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: “The plus is above the star.”, pictur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Time: 8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Time: 9-1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ort: ViewPicture.content, ReadSent.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rt: tentativeResult (to ReadS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put: &lt;involves only ROI’s 3,5,9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52280" y="147312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gnitive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5689440"/>
            <a:ext cx="158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served image se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95560" y="1612800"/>
            <a:ext cx="1371600" cy="851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68480" y="18162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38480" y="1181160"/>
            <a:ext cx="1371600" cy="850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75120" y="125748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ze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00880" y="1905120"/>
            <a:ext cx="1371600" cy="850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99000" y="201924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72400" y="1981080"/>
            <a:ext cx="1371600" cy="851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34240" y="201924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301920" y="1574640"/>
            <a:ext cx="68580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10080" y="1549440"/>
            <a:ext cx="4827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441600" y="1981080"/>
            <a:ext cx="889200" cy="139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079600" y="1994040"/>
            <a:ext cx="660600" cy="583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647720" y="5811840"/>
            <a:ext cx="698760" cy="641520"/>
            <a:chOff x="1647720" y="5811840"/>
            <a:chExt cx="698760" cy="641520"/>
          </a:xfrm>
        </p:grpSpPr>
        <p:sp>
          <p:nvSpPr>
            <p:cNvPr id="814" name=""/>
            <p:cNvSpPr/>
            <p:nvPr/>
          </p:nvSpPr>
          <p:spPr>
            <a:xfrm flipV="1">
              <a:off x="1908000" y="59011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1"/>
            <a:stretch/>
          </p:blipFill>
          <p:spPr>
            <a:xfrm>
              <a:off x="1647720" y="5906160"/>
              <a:ext cx="5403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16" name="" descr=""/>
            <p:cNvPicPr/>
            <p:nvPr/>
          </p:nvPicPr>
          <p:blipFill>
            <a:blip r:embed="rId2"/>
            <a:stretch/>
          </p:blipFill>
          <p:spPr>
            <a:xfrm>
              <a:off x="1714320" y="586368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17" name="" descr=""/>
            <p:cNvPicPr/>
            <p:nvPr/>
          </p:nvPicPr>
          <p:blipFill>
            <a:blip r:embed="rId3"/>
            <a:stretch/>
          </p:blipFill>
          <p:spPr>
            <a:xfrm>
              <a:off x="1784520" y="581184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18" name=""/>
          <p:cNvGrpSpPr/>
          <p:nvPr/>
        </p:nvGrpSpPr>
        <p:grpSpPr>
          <a:xfrm>
            <a:off x="6676920" y="5773680"/>
            <a:ext cx="698760" cy="641520"/>
            <a:chOff x="6676920" y="5773680"/>
            <a:chExt cx="698760" cy="641520"/>
          </a:xfrm>
        </p:grpSpPr>
        <p:sp>
          <p:nvSpPr>
            <p:cNvPr id="819" name=""/>
            <p:cNvSpPr/>
            <p:nvPr/>
          </p:nvSpPr>
          <p:spPr>
            <a:xfrm flipV="1">
              <a:off x="6937200" y="58629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0" name="" descr=""/>
            <p:cNvPicPr/>
            <p:nvPr/>
          </p:nvPicPr>
          <p:blipFill>
            <a:blip r:embed="rId4"/>
            <a:stretch/>
          </p:blipFill>
          <p:spPr>
            <a:xfrm>
              <a:off x="6676920" y="5868000"/>
              <a:ext cx="5403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21" name="" descr=""/>
            <p:cNvPicPr/>
            <p:nvPr/>
          </p:nvPicPr>
          <p:blipFill>
            <a:blip r:embed="rId5"/>
            <a:stretch/>
          </p:blipFill>
          <p:spPr>
            <a:xfrm>
              <a:off x="6743520" y="582552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22" name="" descr=""/>
            <p:cNvPicPr/>
            <p:nvPr/>
          </p:nvPicPr>
          <p:blipFill>
            <a:blip r:embed="rId6"/>
            <a:stretch/>
          </p:blipFill>
          <p:spPr>
            <a:xfrm>
              <a:off x="6813720" y="577368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23" name=""/>
          <p:cNvGrpSpPr/>
          <p:nvPr/>
        </p:nvGrpSpPr>
        <p:grpSpPr>
          <a:xfrm>
            <a:off x="2549520" y="5811840"/>
            <a:ext cx="698400" cy="641520"/>
            <a:chOff x="2549520" y="5811840"/>
            <a:chExt cx="698400" cy="641520"/>
          </a:xfrm>
        </p:grpSpPr>
        <p:sp>
          <p:nvSpPr>
            <p:cNvPr id="824" name=""/>
            <p:cNvSpPr/>
            <p:nvPr/>
          </p:nvSpPr>
          <p:spPr>
            <a:xfrm flipV="1">
              <a:off x="2809440" y="59011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5" name="" descr=""/>
            <p:cNvPicPr/>
            <p:nvPr/>
          </p:nvPicPr>
          <p:blipFill>
            <a:blip r:embed="rId7"/>
            <a:stretch/>
          </p:blipFill>
          <p:spPr>
            <a:xfrm>
              <a:off x="2549520" y="590616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26" name="" descr=""/>
            <p:cNvPicPr/>
            <p:nvPr/>
          </p:nvPicPr>
          <p:blipFill>
            <a:blip r:embed="rId8"/>
            <a:stretch/>
          </p:blipFill>
          <p:spPr>
            <a:xfrm>
              <a:off x="2616120" y="58636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27" name="" descr=""/>
            <p:cNvPicPr/>
            <p:nvPr/>
          </p:nvPicPr>
          <p:blipFill>
            <a:blip r:embed="rId9"/>
            <a:stretch/>
          </p:blipFill>
          <p:spPr>
            <a:xfrm>
              <a:off x="2686320" y="58118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28" name=""/>
          <p:cNvGrpSpPr/>
          <p:nvPr/>
        </p:nvGrpSpPr>
        <p:grpSpPr>
          <a:xfrm>
            <a:off x="3425760" y="5811840"/>
            <a:ext cx="698400" cy="641520"/>
            <a:chOff x="3425760" y="5811840"/>
            <a:chExt cx="698400" cy="641520"/>
          </a:xfrm>
        </p:grpSpPr>
        <p:sp>
          <p:nvSpPr>
            <p:cNvPr id="829" name=""/>
            <p:cNvSpPr/>
            <p:nvPr/>
          </p:nvSpPr>
          <p:spPr>
            <a:xfrm flipV="1">
              <a:off x="3685680" y="59011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0"/>
            <a:stretch/>
          </p:blipFill>
          <p:spPr>
            <a:xfrm>
              <a:off x="3425760" y="590616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1" name="" descr=""/>
            <p:cNvPicPr/>
            <p:nvPr/>
          </p:nvPicPr>
          <p:blipFill>
            <a:blip r:embed="rId11"/>
            <a:stretch/>
          </p:blipFill>
          <p:spPr>
            <a:xfrm>
              <a:off x="3492360" y="58636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2" name="" descr=""/>
            <p:cNvPicPr/>
            <p:nvPr/>
          </p:nvPicPr>
          <p:blipFill>
            <a:blip r:embed="rId12"/>
            <a:stretch/>
          </p:blipFill>
          <p:spPr>
            <a:xfrm>
              <a:off x="3562560" y="58118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33" name=""/>
          <p:cNvGrpSpPr/>
          <p:nvPr/>
        </p:nvGrpSpPr>
        <p:grpSpPr>
          <a:xfrm>
            <a:off x="4276800" y="5786280"/>
            <a:ext cx="698400" cy="641520"/>
            <a:chOff x="4276800" y="5786280"/>
            <a:chExt cx="698400" cy="641520"/>
          </a:xfrm>
        </p:grpSpPr>
        <p:sp>
          <p:nvSpPr>
            <p:cNvPr id="834" name=""/>
            <p:cNvSpPr/>
            <p:nvPr/>
          </p:nvSpPr>
          <p:spPr>
            <a:xfrm flipV="1">
              <a:off x="4536720" y="58755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5" name="" descr=""/>
            <p:cNvPicPr/>
            <p:nvPr/>
          </p:nvPicPr>
          <p:blipFill>
            <a:blip r:embed="rId13"/>
            <a:stretch/>
          </p:blipFill>
          <p:spPr>
            <a:xfrm>
              <a:off x="4276800" y="588060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6" name="" descr=""/>
            <p:cNvPicPr/>
            <p:nvPr/>
          </p:nvPicPr>
          <p:blipFill>
            <a:blip r:embed="rId14"/>
            <a:stretch/>
          </p:blipFill>
          <p:spPr>
            <a:xfrm>
              <a:off x="4343400" y="58381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7" name="" descr=""/>
            <p:cNvPicPr/>
            <p:nvPr/>
          </p:nvPicPr>
          <p:blipFill>
            <a:blip r:embed="rId15"/>
            <a:stretch/>
          </p:blipFill>
          <p:spPr>
            <a:xfrm>
              <a:off x="4413600" y="57862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38" name=""/>
          <p:cNvGrpSpPr/>
          <p:nvPr/>
        </p:nvGrpSpPr>
        <p:grpSpPr>
          <a:xfrm>
            <a:off x="5038560" y="5786280"/>
            <a:ext cx="698760" cy="641520"/>
            <a:chOff x="5038560" y="5786280"/>
            <a:chExt cx="698760" cy="641520"/>
          </a:xfrm>
        </p:grpSpPr>
        <p:sp>
          <p:nvSpPr>
            <p:cNvPr id="839" name=""/>
            <p:cNvSpPr/>
            <p:nvPr/>
          </p:nvSpPr>
          <p:spPr>
            <a:xfrm flipV="1">
              <a:off x="5298840" y="58755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0" name="" descr=""/>
            <p:cNvPicPr/>
            <p:nvPr/>
          </p:nvPicPr>
          <p:blipFill>
            <a:blip r:embed="rId16"/>
            <a:stretch/>
          </p:blipFill>
          <p:spPr>
            <a:xfrm>
              <a:off x="5038560" y="5880600"/>
              <a:ext cx="5403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1" name="" descr=""/>
            <p:cNvPicPr/>
            <p:nvPr/>
          </p:nvPicPr>
          <p:blipFill>
            <a:blip r:embed="rId17"/>
            <a:stretch/>
          </p:blipFill>
          <p:spPr>
            <a:xfrm>
              <a:off x="5105160" y="583812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2" name="" descr=""/>
            <p:cNvPicPr/>
            <p:nvPr/>
          </p:nvPicPr>
          <p:blipFill>
            <a:blip r:embed="rId18"/>
            <a:stretch/>
          </p:blipFill>
          <p:spPr>
            <a:xfrm>
              <a:off x="5175360" y="578628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5864400" y="5797440"/>
            <a:ext cx="698400" cy="641520"/>
            <a:chOff x="5864400" y="5797440"/>
            <a:chExt cx="698400" cy="641520"/>
          </a:xfrm>
        </p:grpSpPr>
        <p:sp>
          <p:nvSpPr>
            <p:cNvPr id="844" name=""/>
            <p:cNvSpPr/>
            <p:nvPr/>
          </p:nvSpPr>
          <p:spPr>
            <a:xfrm flipV="1">
              <a:off x="6124320" y="588672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19"/>
            <a:stretch/>
          </p:blipFill>
          <p:spPr>
            <a:xfrm>
              <a:off x="5864400" y="589176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6" name="" descr=""/>
            <p:cNvPicPr/>
            <p:nvPr/>
          </p:nvPicPr>
          <p:blipFill>
            <a:blip r:embed="rId20"/>
            <a:stretch/>
          </p:blipFill>
          <p:spPr>
            <a:xfrm>
              <a:off x="5931000" y="58492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7" name="" descr=""/>
            <p:cNvPicPr/>
            <p:nvPr/>
          </p:nvPicPr>
          <p:blipFill>
            <a:blip r:embed="rId21"/>
            <a:stretch/>
          </p:blipFill>
          <p:spPr>
            <a:xfrm>
              <a:off x="6001200" y="57974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7489800" y="5786280"/>
            <a:ext cx="698400" cy="641520"/>
            <a:chOff x="7489800" y="5786280"/>
            <a:chExt cx="698400" cy="641520"/>
          </a:xfrm>
        </p:grpSpPr>
        <p:sp>
          <p:nvSpPr>
            <p:cNvPr id="849" name=""/>
            <p:cNvSpPr/>
            <p:nvPr/>
          </p:nvSpPr>
          <p:spPr>
            <a:xfrm flipV="1">
              <a:off x="7749720" y="58755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22"/>
            <a:stretch/>
          </p:blipFill>
          <p:spPr>
            <a:xfrm>
              <a:off x="7489800" y="588060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1" name="" descr=""/>
            <p:cNvPicPr/>
            <p:nvPr/>
          </p:nvPicPr>
          <p:blipFill>
            <a:blip r:embed="rId23"/>
            <a:stretch/>
          </p:blipFill>
          <p:spPr>
            <a:xfrm>
              <a:off x="7556400" y="58381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2" name="" descr=""/>
            <p:cNvPicPr/>
            <p:nvPr/>
          </p:nvPicPr>
          <p:blipFill>
            <a:blip r:embed="rId24"/>
            <a:stretch/>
          </p:blipFill>
          <p:spPr>
            <a:xfrm>
              <a:off x="7626600" y="57862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53" name=""/>
          <p:cNvGrpSpPr/>
          <p:nvPr/>
        </p:nvGrpSpPr>
        <p:grpSpPr>
          <a:xfrm>
            <a:off x="8264520" y="5773680"/>
            <a:ext cx="698400" cy="641520"/>
            <a:chOff x="8264520" y="5773680"/>
            <a:chExt cx="698400" cy="641520"/>
          </a:xfrm>
        </p:grpSpPr>
        <p:sp>
          <p:nvSpPr>
            <p:cNvPr id="854" name=""/>
            <p:cNvSpPr/>
            <p:nvPr/>
          </p:nvSpPr>
          <p:spPr>
            <a:xfrm flipV="1">
              <a:off x="8524440" y="586296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5" name="" descr=""/>
            <p:cNvPicPr/>
            <p:nvPr/>
          </p:nvPicPr>
          <p:blipFill>
            <a:blip r:embed="rId25"/>
            <a:stretch/>
          </p:blipFill>
          <p:spPr>
            <a:xfrm>
              <a:off x="8264520" y="586800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6" name="" descr=""/>
            <p:cNvPicPr/>
            <p:nvPr/>
          </p:nvPicPr>
          <p:blipFill>
            <a:blip r:embed="rId26"/>
            <a:stretch/>
          </p:blipFill>
          <p:spPr>
            <a:xfrm>
              <a:off x="8331120" y="58255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7" name="" descr=""/>
            <p:cNvPicPr/>
            <p:nvPr/>
          </p:nvPicPr>
          <p:blipFill>
            <a:blip r:embed="rId27"/>
            <a:stretch/>
          </p:blipFill>
          <p:spPr>
            <a:xfrm>
              <a:off x="8401320" y="577368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858" name=""/>
          <p:cNvSpPr/>
          <p:nvPr/>
        </p:nvSpPr>
        <p:spPr>
          <a:xfrm flipV="1">
            <a:off x="6654960" y="1727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3416040" y="2197080"/>
            <a:ext cx="240012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6984720" y="2247840"/>
            <a:ext cx="927000" cy="35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5240" y="3060720"/>
            <a:ext cx="19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zed intermediate cognitive states, representations, proc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492360" y="3720960"/>
            <a:ext cx="559080" cy="34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000680" y="3340080"/>
            <a:ext cx="558720" cy="34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21240" y="3911760"/>
            <a:ext cx="558720" cy="342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63960" y="3200400"/>
            <a:ext cx="559080" cy="34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936960" y="3606840"/>
            <a:ext cx="10152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3840" y="3365640"/>
            <a:ext cx="30492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038480" y="3543480"/>
            <a:ext cx="927360" cy="2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4927680" y="3530520"/>
            <a:ext cx="177840" cy="40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187800" y="1739880"/>
            <a:ext cx="90144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62240" y="2959200"/>
            <a:ext cx="30481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57800" y="1866960"/>
            <a:ext cx="876240" cy="16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384880" y="3034800"/>
            <a:ext cx="67320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00400" y="2362320"/>
            <a:ext cx="1015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5028840" y="2666880"/>
            <a:ext cx="2971800" cy="12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552760" y="3987720"/>
            <a:ext cx="3327120" cy="2692440"/>
            <a:chOff x="2552760" y="3987720"/>
            <a:chExt cx="3327120" cy="2692440"/>
          </a:xfrm>
        </p:grpSpPr>
        <p:sp>
          <p:nvSpPr>
            <p:cNvPr id="877" name=""/>
            <p:cNvSpPr/>
            <p:nvPr/>
          </p:nvSpPr>
          <p:spPr>
            <a:xfrm flipH="1">
              <a:off x="4102200" y="4190760"/>
              <a:ext cx="40608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02200" y="5371920"/>
              <a:ext cx="1777680" cy="130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67360" y="4190760"/>
              <a:ext cx="774720" cy="16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52760" y="5308560"/>
              <a:ext cx="2590560" cy="13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577600" y="4012920"/>
              <a:ext cx="901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38480" y="3987720"/>
              <a:ext cx="1117800" cy="18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108160" y="64008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83560" y="901800"/>
            <a:ext cx="1371600" cy="850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81680" y="1015920"/>
            <a:ext cx="15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797960" y="1714680"/>
            <a:ext cx="5839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t We Wa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5546880"/>
            <a:ext cx="158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d fMRI, ERP, Behavioral data, etc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77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HMMs to track algebra solv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23960" y="1160640"/>
            <a:ext cx="79754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6,…  3x+a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946240" y="2603520"/>
            <a:ext cx="1803600" cy="660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22560" y="3645000"/>
            <a:ext cx="1803600" cy="660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82760" y="2540160"/>
            <a:ext cx="2349360" cy="660240"/>
            <a:chOff x="482760" y="2540160"/>
            <a:chExt cx="2349360" cy="660240"/>
          </a:xfrm>
        </p:grpSpPr>
        <p:sp>
          <p:nvSpPr>
            <p:cNvPr id="894" name=""/>
            <p:cNvSpPr/>
            <p:nvPr/>
          </p:nvSpPr>
          <p:spPr>
            <a:xfrm>
              <a:off x="698400" y="2540160"/>
              <a:ext cx="1803600" cy="66024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2760" y="2641680"/>
              <a:ext cx="23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all 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33520" y="3683160"/>
            <a:ext cx="2349360" cy="660240"/>
            <a:chOff x="533520" y="3683160"/>
            <a:chExt cx="2349360" cy="660240"/>
          </a:xfrm>
        </p:grpSpPr>
        <p:sp>
          <p:nvSpPr>
            <p:cNvPr id="897" name=""/>
            <p:cNvSpPr/>
            <p:nvPr/>
          </p:nvSpPr>
          <p:spPr>
            <a:xfrm>
              <a:off x="749520" y="3683160"/>
              <a:ext cx="1803240" cy="66024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3520" y="3784680"/>
              <a:ext cx="23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all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7074000" y="3048120"/>
            <a:ext cx="1803240" cy="660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4813200" y="3086280"/>
            <a:ext cx="2349360" cy="660240"/>
            <a:chOff x="4813200" y="3086280"/>
            <a:chExt cx="2349360" cy="660240"/>
          </a:xfrm>
        </p:grpSpPr>
        <p:sp>
          <p:nvSpPr>
            <p:cNvPr id="901" name=""/>
            <p:cNvSpPr/>
            <p:nvPr/>
          </p:nvSpPr>
          <p:spPr>
            <a:xfrm>
              <a:off x="5028840" y="3086280"/>
              <a:ext cx="1803600" cy="66024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13200" y="3187800"/>
              <a:ext cx="23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s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2716200" y="270504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06560" y="3746520"/>
            <a:ext cx="23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10440" y="2975040"/>
            <a:ext cx="149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02000" y="28702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52760" y="4000680"/>
            <a:ext cx="48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00600" y="3619440"/>
            <a:ext cx="3808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49840" y="2997360"/>
            <a:ext cx="40644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5400" y="3403440"/>
            <a:ext cx="228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899" idx="0"/>
            <a:endCxn id="894" idx="0"/>
          </p:cNvCxnSpPr>
          <p:nvPr/>
        </p:nvCxnSpPr>
        <p:spPr>
          <a:xfrm flipV="1" rot="16200000">
            <a:off x="4533120" y="-394200"/>
            <a:ext cx="508680" cy="6375960"/>
          </a:xfrm>
          <a:prstGeom prst="curvedConnector5">
            <a:avLst>
              <a:gd name="adj1" fmla="val 144971"/>
              <a:gd name="adj2" fmla="val 50000"/>
              <a:gd name="adj3" fmla="val 144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899" idx="4"/>
            <a:endCxn id="897" idx="4"/>
          </p:cNvCxnSpPr>
          <p:nvPr/>
        </p:nvCxnSpPr>
        <p:spPr>
          <a:xfrm rot="5400000">
            <a:off x="4494960" y="863640"/>
            <a:ext cx="635760" cy="6325200"/>
          </a:xfrm>
          <a:prstGeom prst="curvedConnector5">
            <a:avLst>
              <a:gd name="adj1" fmla="val 135977"/>
              <a:gd name="adj2" fmla="val 49997"/>
              <a:gd name="adj3" fmla="val 135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3" name=""/>
          <p:cNvCxnSpPr>
            <a:stCxn id="891" idx="6"/>
            <a:endCxn id="891" idx="0"/>
          </p:cNvCxnSpPr>
          <p:nvPr/>
        </p:nvCxnSpPr>
        <p:spPr>
          <a:xfrm flipH="1" flipV="1">
            <a:off x="3847320" y="2602800"/>
            <a:ext cx="902520" cy="330840"/>
          </a:xfrm>
          <a:prstGeom prst="curvedConnector5">
            <a:avLst>
              <a:gd name="adj1" fmla="val -25339"/>
              <a:gd name="adj2" fmla="val 84531"/>
              <a:gd name="adj3" fmla="val -253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4" name=""/>
          <p:cNvCxnSpPr>
            <a:stCxn id="892" idx="6"/>
            <a:endCxn id="892" idx="4"/>
          </p:cNvCxnSpPr>
          <p:nvPr/>
        </p:nvCxnSpPr>
        <p:spPr>
          <a:xfrm flipH="1">
            <a:off x="3923640" y="3974760"/>
            <a:ext cx="902520" cy="330840"/>
          </a:xfrm>
          <a:prstGeom prst="curvedConnector5">
            <a:avLst>
              <a:gd name="adj1" fmla="val -25339"/>
              <a:gd name="adj2" fmla="val 84531"/>
              <a:gd name="adj3" fmla="val -253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5" name=""/>
          <p:cNvGrpSpPr/>
          <p:nvPr/>
        </p:nvGrpSpPr>
        <p:grpSpPr>
          <a:xfrm>
            <a:off x="1368360" y="5621400"/>
            <a:ext cx="698400" cy="640800"/>
            <a:chOff x="1368360" y="5621400"/>
            <a:chExt cx="698400" cy="640800"/>
          </a:xfrm>
        </p:grpSpPr>
        <p:sp>
          <p:nvSpPr>
            <p:cNvPr id="916" name=""/>
            <p:cNvSpPr/>
            <p:nvPr/>
          </p:nvSpPr>
          <p:spPr>
            <a:xfrm flipV="1">
              <a:off x="1628280" y="57106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7" name="" descr=""/>
            <p:cNvPicPr/>
            <p:nvPr/>
          </p:nvPicPr>
          <p:blipFill>
            <a:blip r:embed="rId1"/>
            <a:stretch/>
          </p:blipFill>
          <p:spPr>
            <a:xfrm>
              <a:off x="1368360" y="57153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18" name="" descr=""/>
            <p:cNvPicPr/>
            <p:nvPr/>
          </p:nvPicPr>
          <p:blipFill>
            <a:blip r:embed="rId2"/>
            <a:stretch/>
          </p:blipFill>
          <p:spPr>
            <a:xfrm>
              <a:off x="1434960" y="56732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19" name="" descr=""/>
            <p:cNvPicPr/>
            <p:nvPr/>
          </p:nvPicPr>
          <p:blipFill>
            <a:blip r:embed="rId3"/>
            <a:stretch/>
          </p:blipFill>
          <p:spPr>
            <a:xfrm>
              <a:off x="1505160" y="56214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20" name=""/>
          <p:cNvGrpSpPr/>
          <p:nvPr/>
        </p:nvGrpSpPr>
        <p:grpSpPr>
          <a:xfrm>
            <a:off x="5445000" y="5581800"/>
            <a:ext cx="698760" cy="640800"/>
            <a:chOff x="5445000" y="5581800"/>
            <a:chExt cx="698760" cy="640800"/>
          </a:xfrm>
        </p:grpSpPr>
        <p:sp>
          <p:nvSpPr>
            <p:cNvPr id="921" name=""/>
            <p:cNvSpPr/>
            <p:nvPr/>
          </p:nvSpPr>
          <p:spPr>
            <a:xfrm flipV="1">
              <a:off x="5705280" y="5671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2" name="" descr=""/>
            <p:cNvPicPr/>
            <p:nvPr/>
          </p:nvPicPr>
          <p:blipFill>
            <a:blip r:embed="rId4"/>
            <a:stretch/>
          </p:blipFill>
          <p:spPr>
            <a:xfrm>
              <a:off x="5445000" y="5675760"/>
              <a:ext cx="5403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3" name="" descr=""/>
            <p:cNvPicPr/>
            <p:nvPr/>
          </p:nvPicPr>
          <p:blipFill>
            <a:blip r:embed="rId5"/>
            <a:stretch/>
          </p:blipFill>
          <p:spPr>
            <a:xfrm>
              <a:off x="5511600" y="5633640"/>
              <a:ext cx="5619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4" name="" descr=""/>
            <p:cNvPicPr/>
            <p:nvPr/>
          </p:nvPicPr>
          <p:blipFill>
            <a:blip r:embed="rId6"/>
            <a:stretch/>
          </p:blipFill>
          <p:spPr>
            <a:xfrm>
              <a:off x="5581800" y="558180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25" name=""/>
          <p:cNvGrpSpPr/>
          <p:nvPr/>
        </p:nvGrpSpPr>
        <p:grpSpPr>
          <a:xfrm>
            <a:off x="3044880" y="5608800"/>
            <a:ext cx="698400" cy="640800"/>
            <a:chOff x="3044880" y="5608800"/>
            <a:chExt cx="698400" cy="640800"/>
          </a:xfrm>
        </p:grpSpPr>
        <p:sp>
          <p:nvSpPr>
            <p:cNvPr id="926" name=""/>
            <p:cNvSpPr/>
            <p:nvPr/>
          </p:nvSpPr>
          <p:spPr>
            <a:xfrm flipV="1">
              <a:off x="3304800" y="5698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" descr=""/>
            <p:cNvPicPr/>
            <p:nvPr/>
          </p:nvPicPr>
          <p:blipFill>
            <a:blip r:embed="rId7"/>
            <a:stretch/>
          </p:blipFill>
          <p:spPr>
            <a:xfrm>
              <a:off x="3044880" y="57027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8" name="" descr=""/>
            <p:cNvPicPr/>
            <p:nvPr/>
          </p:nvPicPr>
          <p:blipFill>
            <a:blip r:embed="rId8"/>
            <a:stretch/>
          </p:blipFill>
          <p:spPr>
            <a:xfrm>
              <a:off x="3111480" y="56606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9" name="" descr=""/>
            <p:cNvPicPr/>
            <p:nvPr/>
          </p:nvPicPr>
          <p:blipFill>
            <a:blip r:embed="rId9"/>
            <a:stretch/>
          </p:blipFill>
          <p:spPr>
            <a:xfrm>
              <a:off x="3181680" y="56088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30" name=""/>
          <p:cNvGrpSpPr/>
          <p:nvPr/>
        </p:nvGrpSpPr>
        <p:grpSpPr>
          <a:xfrm>
            <a:off x="2232000" y="5632560"/>
            <a:ext cx="698400" cy="640800"/>
            <a:chOff x="2232000" y="5632560"/>
            <a:chExt cx="698400" cy="640800"/>
          </a:xfrm>
        </p:grpSpPr>
        <p:sp>
          <p:nvSpPr>
            <p:cNvPr id="931" name=""/>
            <p:cNvSpPr/>
            <p:nvPr/>
          </p:nvSpPr>
          <p:spPr>
            <a:xfrm flipV="1">
              <a:off x="2491920" y="572184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2" name="" descr=""/>
            <p:cNvPicPr/>
            <p:nvPr/>
          </p:nvPicPr>
          <p:blipFill>
            <a:blip r:embed="rId10"/>
            <a:stretch/>
          </p:blipFill>
          <p:spPr>
            <a:xfrm>
              <a:off x="2232000" y="572652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33" name="" descr=""/>
            <p:cNvPicPr/>
            <p:nvPr/>
          </p:nvPicPr>
          <p:blipFill>
            <a:blip r:embed="rId11"/>
            <a:stretch/>
          </p:blipFill>
          <p:spPr>
            <a:xfrm>
              <a:off x="2298600" y="568440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34" name="" descr=""/>
            <p:cNvPicPr/>
            <p:nvPr/>
          </p:nvPicPr>
          <p:blipFill>
            <a:blip r:embed="rId12"/>
            <a:stretch/>
          </p:blipFill>
          <p:spPr>
            <a:xfrm>
              <a:off x="2368800" y="563256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35" name=""/>
          <p:cNvGrpSpPr/>
          <p:nvPr/>
        </p:nvGrpSpPr>
        <p:grpSpPr>
          <a:xfrm>
            <a:off x="3857760" y="5621400"/>
            <a:ext cx="698400" cy="640800"/>
            <a:chOff x="3857760" y="5621400"/>
            <a:chExt cx="698400" cy="640800"/>
          </a:xfrm>
        </p:grpSpPr>
        <p:sp>
          <p:nvSpPr>
            <p:cNvPr id="936" name=""/>
            <p:cNvSpPr/>
            <p:nvPr/>
          </p:nvSpPr>
          <p:spPr>
            <a:xfrm flipV="1">
              <a:off x="4117680" y="57106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7" name="" descr=""/>
            <p:cNvPicPr/>
            <p:nvPr/>
          </p:nvPicPr>
          <p:blipFill>
            <a:blip r:embed="rId13"/>
            <a:stretch/>
          </p:blipFill>
          <p:spPr>
            <a:xfrm>
              <a:off x="3857760" y="57153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38" name="" descr=""/>
            <p:cNvPicPr/>
            <p:nvPr/>
          </p:nvPicPr>
          <p:blipFill>
            <a:blip r:embed="rId14"/>
            <a:stretch/>
          </p:blipFill>
          <p:spPr>
            <a:xfrm>
              <a:off x="3924360" y="56732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39" name="" descr=""/>
            <p:cNvPicPr/>
            <p:nvPr/>
          </p:nvPicPr>
          <p:blipFill>
            <a:blip r:embed="rId15"/>
            <a:stretch/>
          </p:blipFill>
          <p:spPr>
            <a:xfrm>
              <a:off x="3994560" y="56214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40" name=""/>
          <p:cNvGrpSpPr/>
          <p:nvPr/>
        </p:nvGrpSpPr>
        <p:grpSpPr>
          <a:xfrm>
            <a:off x="4632480" y="5608800"/>
            <a:ext cx="698400" cy="640800"/>
            <a:chOff x="4632480" y="5608800"/>
            <a:chExt cx="698400" cy="640800"/>
          </a:xfrm>
        </p:grpSpPr>
        <p:sp>
          <p:nvSpPr>
            <p:cNvPr id="941" name=""/>
            <p:cNvSpPr/>
            <p:nvPr/>
          </p:nvSpPr>
          <p:spPr>
            <a:xfrm flipV="1">
              <a:off x="4892400" y="5698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2" name="" descr=""/>
            <p:cNvPicPr/>
            <p:nvPr/>
          </p:nvPicPr>
          <p:blipFill>
            <a:blip r:embed="rId16"/>
            <a:stretch/>
          </p:blipFill>
          <p:spPr>
            <a:xfrm>
              <a:off x="4632480" y="57027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43" name="" descr=""/>
            <p:cNvPicPr/>
            <p:nvPr/>
          </p:nvPicPr>
          <p:blipFill>
            <a:blip r:embed="rId17"/>
            <a:stretch/>
          </p:blipFill>
          <p:spPr>
            <a:xfrm>
              <a:off x="4699080" y="56606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44" name="" descr=""/>
            <p:cNvPicPr/>
            <p:nvPr/>
          </p:nvPicPr>
          <p:blipFill>
            <a:blip r:embed="rId18"/>
            <a:stretch/>
          </p:blipFill>
          <p:spPr>
            <a:xfrm>
              <a:off x="4769280" y="56088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45" name=""/>
          <p:cNvGrpSpPr/>
          <p:nvPr/>
        </p:nvGrpSpPr>
        <p:grpSpPr>
          <a:xfrm>
            <a:off x="542880" y="5619600"/>
            <a:ext cx="698400" cy="641520"/>
            <a:chOff x="542880" y="5619600"/>
            <a:chExt cx="698400" cy="641520"/>
          </a:xfrm>
        </p:grpSpPr>
        <p:sp>
          <p:nvSpPr>
            <p:cNvPr id="946" name=""/>
            <p:cNvSpPr/>
            <p:nvPr/>
          </p:nvSpPr>
          <p:spPr>
            <a:xfrm flipV="1">
              <a:off x="802800" y="57088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7" name="" descr=""/>
            <p:cNvPicPr/>
            <p:nvPr/>
          </p:nvPicPr>
          <p:blipFill>
            <a:blip r:embed="rId19"/>
            <a:stretch/>
          </p:blipFill>
          <p:spPr>
            <a:xfrm>
              <a:off x="542880" y="571392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48" name="" descr=""/>
            <p:cNvPicPr/>
            <p:nvPr/>
          </p:nvPicPr>
          <p:blipFill>
            <a:blip r:embed="rId20"/>
            <a:stretch/>
          </p:blipFill>
          <p:spPr>
            <a:xfrm>
              <a:off x="609480" y="56714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49" name="" descr=""/>
            <p:cNvPicPr/>
            <p:nvPr/>
          </p:nvPicPr>
          <p:blipFill>
            <a:blip r:embed="rId21"/>
            <a:stretch/>
          </p:blipFill>
          <p:spPr>
            <a:xfrm>
              <a:off x="679680" y="56196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950" name=""/>
          <p:cNvSpPr/>
          <p:nvPr/>
        </p:nvSpPr>
        <p:spPr>
          <a:xfrm>
            <a:off x="2984400" y="64008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3665520" y="1268280"/>
            <a:ext cx="1257480" cy="558720"/>
            <a:chOff x="3665520" y="1268280"/>
            <a:chExt cx="1257480" cy="558720"/>
          </a:xfrm>
        </p:grpSpPr>
        <p:sp>
          <p:nvSpPr>
            <p:cNvPr id="952" name=""/>
            <p:cNvSpPr/>
            <p:nvPr/>
          </p:nvSpPr>
          <p:spPr>
            <a:xfrm>
              <a:off x="3819600" y="1268280"/>
              <a:ext cx="965160" cy="55872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65520" y="1303200"/>
              <a:ext cx="12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708360" y="4330800"/>
            <a:ext cx="15228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48040" y="5270400"/>
            <a:ext cx="2527200" cy="13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06760" y="4254480"/>
            <a:ext cx="176544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4600" y="5283360"/>
            <a:ext cx="3289320" cy="13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431640" y="4267080"/>
            <a:ext cx="77472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76440" y="4152960"/>
            <a:ext cx="113040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97760" y="5092560"/>
            <a:ext cx="15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22440" y="3022560"/>
            <a:ext cx="74448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43320" y="3174480"/>
            <a:ext cx="81900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803840" y="1538280"/>
            <a:ext cx="3390840" cy="1509840"/>
          </a:xfrm>
          <a:custGeom>
            <a:avLst/>
            <a:gdLst/>
            <a:ahLst/>
            <a:rect l="l" t="t" r="r" b="b"/>
            <a:pathLst>
              <a:path w="2136" h="951">
                <a:moveTo>
                  <a:pt x="0" y="0"/>
                </a:moveTo>
                <a:cubicBezTo>
                  <a:pt x="715" y="39"/>
                  <a:pt x="1430" y="79"/>
                  <a:pt x="1783" y="238"/>
                </a:cubicBezTo>
                <a:cubicBezTo>
                  <a:pt x="2136" y="397"/>
                  <a:pt x="2128" y="674"/>
                  <a:pt x="2121" y="9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imaging ripe for new data analysi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s of cognitiv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models of cogni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is of brain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 in high-dimensional data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 se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 algorithms for extrem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diverse 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results from multiple subjects &amp;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OLD Respon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14958" t="0" r="0" b="0"/>
          <a:stretch/>
        </p:blipFill>
        <p:spPr>
          <a:xfrm>
            <a:off x="838080" y="205740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379400" y="1142640"/>
            <a:ext cx="407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Oxygen Level Dependent (BOLD) response is smeared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BOLD impuls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rot="10841400">
            <a:off x="533520" y="3130560"/>
            <a:ext cx="4546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55880" y="60958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(seco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657600" y="3733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77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idden Markov Models to track sequences of cognitive states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[Rebecca Hutchinson]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946240" y="2603520"/>
            <a:ext cx="1803600" cy="66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22560" y="3645000"/>
            <a:ext cx="1803600" cy="6602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8400" y="2540160"/>
            <a:ext cx="1803600" cy="6602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2760" y="264168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49160" y="3683160"/>
            <a:ext cx="1803600" cy="66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520" y="378468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74000" y="3048120"/>
            <a:ext cx="1803240" cy="660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16200" y="270504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806560" y="3746520"/>
            <a:ext cx="23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69120" y="313380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02000" y="28702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52760" y="4000680"/>
            <a:ext cx="48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79" idx="0"/>
            <a:endCxn id="975" idx="0"/>
          </p:cNvCxnSpPr>
          <p:nvPr/>
        </p:nvCxnSpPr>
        <p:spPr>
          <a:xfrm flipV="1" rot="16200000">
            <a:off x="4533120" y="-394200"/>
            <a:ext cx="508680" cy="6375960"/>
          </a:xfrm>
          <a:prstGeom prst="curvedConnector5">
            <a:avLst>
              <a:gd name="adj1" fmla="val 144971"/>
              <a:gd name="adj2" fmla="val 50000"/>
              <a:gd name="adj3" fmla="val 144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79" idx="4"/>
            <a:endCxn id="977" idx="4"/>
          </p:cNvCxnSpPr>
          <p:nvPr/>
        </p:nvCxnSpPr>
        <p:spPr>
          <a:xfrm rot="5400000">
            <a:off x="4494960" y="863640"/>
            <a:ext cx="635760" cy="6325200"/>
          </a:xfrm>
          <a:prstGeom prst="curvedConnector5">
            <a:avLst>
              <a:gd name="adj1" fmla="val 135977"/>
              <a:gd name="adj2" fmla="val 49997"/>
              <a:gd name="adj3" fmla="val 135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87" name=""/>
          <p:cNvGrpSpPr/>
          <p:nvPr/>
        </p:nvGrpSpPr>
        <p:grpSpPr>
          <a:xfrm>
            <a:off x="1368360" y="5621400"/>
            <a:ext cx="698400" cy="640800"/>
            <a:chOff x="1368360" y="5621400"/>
            <a:chExt cx="698400" cy="640800"/>
          </a:xfrm>
        </p:grpSpPr>
        <p:sp>
          <p:nvSpPr>
            <p:cNvPr id="988" name=""/>
            <p:cNvSpPr/>
            <p:nvPr/>
          </p:nvSpPr>
          <p:spPr>
            <a:xfrm flipV="1">
              <a:off x="1628280" y="57106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" descr=""/>
            <p:cNvPicPr/>
            <p:nvPr/>
          </p:nvPicPr>
          <p:blipFill>
            <a:blip r:embed="rId1"/>
            <a:stretch/>
          </p:blipFill>
          <p:spPr>
            <a:xfrm>
              <a:off x="1368360" y="57153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0" name="" descr=""/>
            <p:cNvPicPr/>
            <p:nvPr/>
          </p:nvPicPr>
          <p:blipFill>
            <a:blip r:embed="rId2"/>
            <a:stretch/>
          </p:blipFill>
          <p:spPr>
            <a:xfrm>
              <a:off x="1434960" y="56732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1" name="" descr=""/>
            <p:cNvPicPr/>
            <p:nvPr/>
          </p:nvPicPr>
          <p:blipFill>
            <a:blip r:embed="rId3"/>
            <a:stretch/>
          </p:blipFill>
          <p:spPr>
            <a:xfrm>
              <a:off x="1505160" y="56214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5445000" y="5581800"/>
            <a:ext cx="698760" cy="640800"/>
            <a:chOff x="5445000" y="5581800"/>
            <a:chExt cx="698760" cy="640800"/>
          </a:xfrm>
        </p:grpSpPr>
        <p:sp>
          <p:nvSpPr>
            <p:cNvPr id="993" name=""/>
            <p:cNvSpPr/>
            <p:nvPr/>
          </p:nvSpPr>
          <p:spPr>
            <a:xfrm flipV="1">
              <a:off x="5705280" y="5671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4"/>
            <a:stretch/>
          </p:blipFill>
          <p:spPr>
            <a:xfrm>
              <a:off x="5445000" y="5675760"/>
              <a:ext cx="5403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5" name="" descr=""/>
            <p:cNvPicPr/>
            <p:nvPr/>
          </p:nvPicPr>
          <p:blipFill>
            <a:blip r:embed="rId5"/>
            <a:stretch/>
          </p:blipFill>
          <p:spPr>
            <a:xfrm>
              <a:off x="5511600" y="5633640"/>
              <a:ext cx="5619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6" name="" descr=""/>
            <p:cNvPicPr/>
            <p:nvPr/>
          </p:nvPicPr>
          <p:blipFill>
            <a:blip r:embed="rId6"/>
            <a:stretch/>
          </p:blipFill>
          <p:spPr>
            <a:xfrm>
              <a:off x="5581800" y="558180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97" name=""/>
          <p:cNvGrpSpPr/>
          <p:nvPr/>
        </p:nvGrpSpPr>
        <p:grpSpPr>
          <a:xfrm>
            <a:off x="3044880" y="5608800"/>
            <a:ext cx="698400" cy="640800"/>
            <a:chOff x="3044880" y="5608800"/>
            <a:chExt cx="698400" cy="640800"/>
          </a:xfrm>
        </p:grpSpPr>
        <p:sp>
          <p:nvSpPr>
            <p:cNvPr id="998" name=""/>
            <p:cNvSpPr/>
            <p:nvPr/>
          </p:nvSpPr>
          <p:spPr>
            <a:xfrm flipV="1">
              <a:off x="3304800" y="5698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7"/>
            <a:stretch/>
          </p:blipFill>
          <p:spPr>
            <a:xfrm>
              <a:off x="3044880" y="57027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00" name="" descr=""/>
            <p:cNvPicPr/>
            <p:nvPr/>
          </p:nvPicPr>
          <p:blipFill>
            <a:blip r:embed="rId8"/>
            <a:stretch/>
          </p:blipFill>
          <p:spPr>
            <a:xfrm>
              <a:off x="3111480" y="56606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01" name="" descr=""/>
            <p:cNvPicPr/>
            <p:nvPr/>
          </p:nvPicPr>
          <p:blipFill>
            <a:blip r:embed="rId9"/>
            <a:stretch/>
          </p:blipFill>
          <p:spPr>
            <a:xfrm>
              <a:off x="3181680" y="56088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02" name=""/>
          <p:cNvGrpSpPr/>
          <p:nvPr/>
        </p:nvGrpSpPr>
        <p:grpSpPr>
          <a:xfrm>
            <a:off x="2232000" y="5632560"/>
            <a:ext cx="698400" cy="640800"/>
            <a:chOff x="2232000" y="5632560"/>
            <a:chExt cx="698400" cy="640800"/>
          </a:xfrm>
        </p:grpSpPr>
        <p:sp>
          <p:nvSpPr>
            <p:cNvPr id="1003" name=""/>
            <p:cNvSpPr/>
            <p:nvPr/>
          </p:nvSpPr>
          <p:spPr>
            <a:xfrm flipV="1">
              <a:off x="2491920" y="572184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10"/>
            <a:stretch/>
          </p:blipFill>
          <p:spPr>
            <a:xfrm>
              <a:off x="2232000" y="572652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05" name="" descr=""/>
            <p:cNvPicPr/>
            <p:nvPr/>
          </p:nvPicPr>
          <p:blipFill>
            <a:blip r:embed="rId11"/>
            <a:stretch/>
          </p:blipFill>
          <p:spPr>
            <a:xfrm>
              <a:off x="2298600" y="568440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06" name="" descr=""/>
            <p:cNvPicPr/>
            <p:nvPr/>
          </p:nvPicPr>
          <p:blipFill>
            <a:blip r:embed="rId12"/>
            <a:stretch/>
          </p:blipFill>
          <p:spPr>
            <a:xfrm>
              <a:off x="2368800" y="563256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3857760" y="5621400"/>
            <a:ext cx="698400" cy="640800"/>
            <a:chOff x="3857760" y="5621400"/>
            <a:chExt cx="698400" cy="640800"/>
          </a:xfrm>
        </p:grpSpPr>
        <p:sp>
          <p:nvSpPr>
            <p:cNvPr id="1008" name=""/>
            <p:cNvSpPr/>
            <p:nvPr/>
          </p:nvSpPr>
          <p:spPr>
            <a:xfrm flipV="1">
              <a:off x="4117680" y="57106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3"/>
            <a:stretch/>
          </p:blipFill>
          <p:spPr>
            <a:xfrm>
              <a:off x="3857760" y="57153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0" name="" descr=""/>
            <p:cNvPicPr/>
            <p:nvPr/>
          </p:nvPicPr>
          <p:blipFill>
            <a:blip r:embed="rId14"/>
            <a:stretch/>
          </p:blipFill>
          <p:spPr>
            <a:xfrm>
              <a:off x="3924360" y="56732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1" name="" descr=""/>
            <p:cNvPicPr/>
            <p:nvPr/>
          </p:nvPicPr>
          <p:blipFill>
            <a:blip r:embed="rId15"/>
            <a:stretch/>
          </p:blipFill>
          <p:spPr>
            <a:xfrm>
              <a:off x="3994560" y="56214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12" name=""/>
          <p:cNvGrpSpPr/>
          <p:nvPr/>
        </p:nvGrpSpPr>
        <p:grpSpPr>
          <a:xfrm>
            <a:off x="4632480" y="5608800"/>
            <a:ext cx="698400" cy="640800"/>
            <a:chOff x="4632480" y="5608800"/>
            <a:chExt cx="698400" cy="640800"/>
          </a:xfrm>
        </p:grpSpPr>
        <p:sp>
          <p:nvSpPr>
            <p:cNvPr id="1013" name=""/>
            <p:cNvSpPr/>
            <p:nvPr/>
          </p:nvSpPr>
          <p:spPr>
            <a:xfrm flipV="1">
              <a:off x="4892400" y="56980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4" name="" descr=""/>
            <p:cNvPicPr/>
            <p:nvPr/>
          </p:nvPicPr>
          <p:blipFill>
            <a:blip r:embed="rId16"/>
            <a:stretch/>
          </p:blipFill>
          <p:spPr>
            <a:xfrm>
              <a:off x="4632480" y="570276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5" name="" descr=""/>
            <p:cNvPicPr/>
            <p:nvPr/>
          </p:nvPicPr>
          <p:blipFill>
            <a:blip r:embed="rId17"/>
            <a:stretch/>
          </p:blipFill>
          <p:spPr>
            <a:xfrm>
              <a:off x="4699080" y="566064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6" name="" descr=""/>
            <p:cNvPicPr/>
            <p:nvPr/>
          </p:nvPicPr>
          <p:blipFill>
            <a:blip r:embed="rId18"/>
            <a:stretch/>
          </p:blipFill>
          <p:spPr>
            <a:xfrm>
              <a:off x="4769280" y="56088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17" name=""/>
          <p:cNvGrpSpPr/>
          <p:nvPr/>
        </p:nvGrpSpPr>
        <p:grpSpPr>
          <a:xfrm>
            <a:off x="542880" y="5619600"/>
            <a:ext cx="698400" cy="641520"/>
            <a:chOff x="542880" y="5619600"/>
            <a:chExt cx="698400" cy="641520"/>
          </a:xfrm>
        </p:grpSpPr>
        <p:sp>
          <p:nvSpPr>
            <p:cNvPr id="1018" name=""/>
            <p:cNvSpPr/>
            <p:nvPr/>
          </p:nvSpPr>
          <p:spPr>
            <a:xfrm flipV="1">
              <a:off x="802800" y="570888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9" name="" descr=""/>
            <p:cNvPicPr/>
            <p:nvPr/>
          </p:nvPicPr>
          <p:blipFill>
            <a:blip r:embed="rId19"/>
            <a:stretch/>
          </p:blipFill>
          <p:spPr>
            <a:xfrm>
              <a:off x="542880" y="5713920"/>
              <a:ext cx="5400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20" name="" descr=""/>
            <p:cNvPicPr/>
            <p:nvPr/>
          </p:nvPicPr>
          <p:blipFill>
            <a:blip r:embed="rId20"/>
            <a:stretch/>
          </p:blipFill>
          <p:spPr>
            <a:xfrm>
              <a:off x="609480" y="567144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21" name="" descr=""/>
            <p:cNvPicPr/>
            <p:nvPr/>
          </p:nvPicPr>
          <p:blipFill>
            <a:blip r:embed="rId21"/>
            <a:stretch/>
          </p:blipFill>
          <p:spPr>
            <a:xfrm>
              <a:off x="679680" y="561960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22" name=""/>
          <p:cNvSpPr/>
          <p:nvPr/>
        </p:nvSpPr>
        <p:spPr>
          <a:xfrm>
            <a:off x="2133720" y="64008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708360" y="4330800"/>
            <a:ext cx="15228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48040" y="5270400"/>
            <a:ext cx="2527200" cy="13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406760" y="4254480"/>
            <a:ext cx="176544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44600" y="5283360"/>
            <a:ext cx="3289320" cy="13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31640" y="4267080"/>
            <a:ext cx="77472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76440" y="4152960"/>
            <a:ext cx="113040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69360" y="5181480"/>
            <a:ext cx="15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7162920" y="5562720"/>
            <a:ext cx="698400" cy="640800"/>
            <a:chOff x="7162920" y="5562720"/>
            <a:chExt cx="698400" cy="640800"/>
          </a:xfrm>
        </p:grpSpPr>
        <p:sp>
          <p:nvSpPr>
            <p:cNvPr id="1031" name=""/>
            <p:cNvSpPr/>
            <p:nvPr/>
          </p:nvSpPr>
          <p:spPr>
            <a:xfrm flipV="1">
              <a:off x="7422840" y="565200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2" name="" descr=""/>
            <p:cNvPicPr/>
            <p:nvPr/>
          </p:nvPicPr>
          <p:blipFill>
            <a:blip r:embed="rId22"/>
            <a:stretch/>
          </p:blipFill>
          <p:spPr>
            <a:xfrm>
              <a:off x="7162920" y="5656680"/>
              <a:ext cx="5400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33" name="" descr=""/>
            <p:cNvPicPr/>
            <p:nvPr/>
          </p:nvPicPr>
          <p:blipFill>
            <a:blip r:embed="rId23"/>
            <a:stretch/>
          </p:blipFill>
          <p:spPr>
            <a:xfrm>
              <a:off x="7229520" y="5614560"/>
              <a:ext cx="56160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34" name="" descr=""/>
            <p:cNvPicPr/>
            <p:nvPr/>
          </p:nvPicPr>
          <p:blipFill>
            <a:blip r:embed="rId24"/>
            <a:stretch/>
          </p:blipFill>
          <p:spPr>
            <a:xfrm>
              <a:off x="7299720" y="5562720"/>
              <a:ext cx="56160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35" name=""/>
          <p:cNvGrpSpPr/>
          <p:nvPr/>
        </p:nvGrpSpPr>
        <p:grpSpPr>
          <a:xfrm>
            <a:off x="6324480" y="5562720"/>
            <a:ext cx="698760" cy="640800"/>
            <a:chOff x="6324480" y="5562720"/>
            <a:chExt cx="698760" cy="640800"/>
          </a:xfrm>
        </p:grpSpPr>
        <p:sp>
          <p:nvSpPr>
            <p:cNvPr id="1036" name=""/>
            <p:cNvSpPr/>
            <p:nvPr/>
          </p:nvSpPr>
          <p:spPr>
            <a:xfrm flipV="1">
              <a:off x="6584760" y="5652000"/>
              <a:ext cx="176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7" name="" descr=""/>
            <p:cNvPicPr/>
            <p:nvPr/>
          </p:nvPicPr>
          <p:blipFill>
            <a:blip r:embed="rId25"/>
            <a:stretch/>
          </p:blipFill>
          <p:spPr>
            <a:xfrm>
              <a:off x="6324480" y="5656680"/>
              <a:ext cx="5403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38" name="" descr=""/>
            <p:cNvPicPr/>
            <p:nvPr/>
          </p:nvPicPr>
          <p:blipFill>
            <a:blip r:embed="rId26"/>
            <a:stretch/>
          </p:blipFill>
          <p:spPr>
            <a:xfrm>
              <a:off x="6391080" y="5614560"/>
              <a:ext cx="561960" cy="54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39" name="" descr=""/>
            <p:cNvPicPr/>
            <p:nvPr/>
          </p:nvPicPr>
          <p:blipFill>
            <a:blip r:embed="rId27"/>
            <a:stretch/>
          </p:blipFill>
          <p:spPr>
            <a:xfrm>
              <a:off x="6461280" y="5562720"/>
              <a:ext cx="561960" cy="54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40" name=""/>
          <p:cNvSpPr/>
          <p:nvPr/>
        </p:nvSpPr>
        <p:spPr>
          <a:xfrm>
            <a:off x="73915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6748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4800600" y="35053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24280" y="289548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at next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eature selec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how to blend feature selection criteria in ‘zero-signal’ learning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to use prior knowledge from neurophysiology to help train clas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classifiers that work across multiple b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o tra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qu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gnitive states and cogn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ature Selection Helps!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election is esse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1447920" y="2743200"/>
          <a:ext cx="7467480" cy="150480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9" name=""/>
          <p:cNvSpPr/>
          <p:nvPr/>
        </p:nvSpPr>
        <p:spPr>
          <a:xfrm>
            <a:off x="294480" y="27432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1447920" y="4343400"/>
          <a:ext cx="7467480" cy="15235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1" name=""/>
          <p:cNvSpPr/>
          <p:nvPr/>
        </p:nvSpPr>
        <p:spPr>
          <a:xfrm>
            <a:off x="-16560" y="32767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F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9320" y="38098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FS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94480" y="44038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-16560" y="4952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F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29320" y="54705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FS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50840" y="601992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 Selection used: Top 240 most active voxels over whole br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ame results as shown in earlier slid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by activity beats selecting by discrim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1: 1440 most discriminable voxels (based on single-voxel classifier accuracy), whole b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2: 240 most active voxels, whole b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"/>
          <p:cNvGraphicFramePr/>
          <p:nvPr/>
        </p:nvGraphicFramePr>
        <p:xfrm>
          <a:off x="1295280" y="3718080"/>
          <a:ext cx="7467480" cy="150480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0" name=""/>
          <p:cNvSpPr/>
          <p:nvPr/>
        </p:nvSpPr>
        <p:spPr>
          <a:xfrm>
            <a:off x="142200" y="3718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1" name=""/>
          <p:cNvGraphicFramePr/>
          <p:nvPr/>
        </p:nvGraphicFramePr>
        <p:xfrm>
          <a:off x="1295280" y="5318280"/>
          <a:ext cx="7467840" cy="152388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800"/>
                <a:gridCol w="1063440"/>
                <a:gridCol w="1068480"/>
                <a:gridCol w="1073160"/>
                <a:gridCol w="10638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2" name=""/>
          <p:cNvSpPr/>
          <p:nvPr/>
        </p:nvSpPr>
        <p:spPr>
          <a:xfrm>
            <a:off x="-34200" y="42512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34200" y="4784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2200" y="5378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-34200" y="5927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-34200" y="64612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ining Classifiers of Cognitive Stat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562040"/>
            <a:ext cx="87487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classifiers of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RI(t, t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gnitive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MRI(t, t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{ReadNoun, ReadVer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et of cognitiv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time interval [t, t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rcRect l="3127" t="37501" r="4688" b="16666"/>
          <a:stretch/>
        </p:blipFill>
        <p:spPr>
          <a:xfrm>
            <a:off x="152280" y="1690560"/>
            <a:ext cx="8991720" cy="335304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curacy for Single-Subject Classif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rcRect l="3127" t="27086" r="7811" b="22917"/>
          <a:stretch/>
        </p:blipFill>
        <p:spPr>
          <a:xfrm>
            <a:off x="225360" y="188748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0" y="152280"/>
            <a:ext cx="914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curacy for Cross-Subject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NB Classif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rcRect l="3127" t="33337" r="18749" b="31250"/>
          <a:stretch/>
        </p:blipFill>
        <p:spPr>
          <a:xfrm>
            <a:off x="0" y="2157480"/>
            <a:ext cx="8839080" cy="3004920"/>
          </a:xfrm>
          <a:prstGeom prst="rect">
            <a:avLst/>
          </a:prstGeom>
          <a:ln w="0">
            <a:noFill/>
          </a:ln>
        </p:spPr>
      </p:pic>
      <p:sp>
        <p:nvSpPr>
          <p:cNvPr id="1072" name=""/>
          <p:cNvSpPr/>
          <p:nvPr/>
        </p:nvSpPr>
        <p:spPr>
          <a:xfrm>
            <a:off x="0" y="15228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curacy for Cross-Subject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d Cross-Context Classif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, one can train subject-independent class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vs.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sentence vs. unamb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over new subjects competitive with accuracy over training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brain shapes, 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to anatomically defined RO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ph to Talairach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training of classifiers for distinguishing cognitive states in four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election and abstraction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new “zero-signal” learning s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ubject classifiers trained by abstracting to anatomically defined R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how broad a context, and how broad a range of subjects, can we train classifiers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83920" y="0"/>
            <a:ext cx="782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fMRI contain enough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vs.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uous vs. unambiguous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n vs.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emantic categories of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devise learning algorithms to construct such “virtual senso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imension, sparse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, more accurate method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earch Opportunit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empor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’s, Temporal Bayes net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ing useful data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A, PCA, LSA, hidden layer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cognitive states to cognitiv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-R, 4CAP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ing data from multiple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RI, ERP, reaction tim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0" y="304920"/>
            <a:ext cx="40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MRI to observe human brain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49920" y="45720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to discover patterns in complex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057400" y="2590920"/>
            <a:ext cx="1596960" cy="78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5029200" y="2438280"/>
            <a:ext cx="175248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43000" y="34290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iscoveries about human brai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rcRect l="0" t="18251" r="5810" b="40670"/>
          <a:stretch/>
        </p:blipFill>
        <p:spPr>
          <a:xfrm>
            <a:off x="1752480" y="3886200"/>
            <a:ext cx="5153040" cy="168588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2"/>
          <a:srcRect l="17254" t="18556" r="12060" b="23158"/>
          <a:stretch/>
        </p:blipFill>
        <p:spPr>
          <a:xfrm>
            <a:off x="838080" y="1219320"/>
            <a:ext cx="2237040" cy="138420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0" y="5638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Our algorithms have learned to distinguish whether a human subject is reading a word about ‘buildings’ versus ‘tool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5029200" y="1371600"/>
            <a:ext cx="3663720" cy="939960"/>
            <a:chOff x="5029200" y="1371600"/>
            <a:chExt cx="3663720" cy="939960"/>
          </a:xfrm>
        </p:grpSpPr>
        <p:sp>
          <p:nvSpPr>
            <p:cNvPr id="1090" name=""/>
            <p:cNvSpPr/>
            <p:nvPr/>
          </p:nvSpPr>
          <p:spPr>
            <a:xfrm>
              <a:off x="5181480" y="1522440"/>
              <a:ext cx="1052640" cy="6033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7305480" y="1420920"/>
              <a:ext cx="1331640" cy="840960"/>
              <a:chOff x="7305480" y="1420920"/>
              <a:chExt cx="1331640" cy="840960"/>
            </a:xfrm>
          </p:grpSpPr>
          <p:sp>
            <p:nvSpPr>
              <p:cNvPr id="1092" name=""/>
              <p:cNvSpPr/>
              <p:nvPr/>
            </p:nvSpPr>
            <p:spPr>
              <a:xfrm>
                <a:off x="8470800" y="205164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137800" y="142092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154000" y="179928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070840" y="212184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54680" y="181368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21480" y="207936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305480" y="1827000"/>
                <a:ext cx="166320" cy="140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9" name=""/>
              <p:cNvCxnSpPr>
                <a:stCxn id="1093" idx="2"/>
                <a:endCxn id="1098" idx="7"/>
              </p:cNvCxnSpPr>
              <p:nvPr/>
            </p:nvCxnSpPr>
            <p:spPr>
              <a:xfrm flipH="1">
                <a:off x="7446960" y="1490760"/>
                <a:ext cx="687600" cy="354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0" name=""/>
              <p:cNvCxnSpPr>
                <a:stCxn id="1093" idx="3"/>
                <a:endCxn id="1096" idx="7"/>
              </p:cNvCxnSpPr>
              <p:nvPr/>
            </p:nvCxnSpPr>
            <p:spPr>
              <a:xfrm flipH="1">
                <a:off x="7796160" y="1542960"/>
                <a:ext cx="366120" cy="288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1" name=""/>
              <p:cNvCxnSpPr>
                <a:stCxn id="1093" idx="4"/>
                <a:endCxn id="1094" idx="0"/>
              </p:cNvCxnSpPr>
              <p:nvPr/>
            </p:nvCxnSpPr>
            <p:spPr>
              <a:xfrm>
                <a:off x="8221320" y="1563840"/>
                <a:ext cx="16560" cy="2336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2" name=""/>
              <p:cNvCxnSpPr>
                <a:stCxn id="1098" idx="5"/>
                <a:endCxn id="1097" idx="1"/>
              </p:cNvCxnSpPr>
              <p:nvPr/>
            </p:nvCxnSpPr>
            <p:spPr>
              <a:xfrm>
                <a:off x="7446960" y="1949400"/>
                <a:ext cx="99000" cy="147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3" name=""/>
              <p:cNvCxnSpPr>
                <a:stCxn id="1096" idx="4"/>
                <a:endCxn id="1097" idx="7"/>
              </p:cNvCxnSpPr>
              <p:nvPr/>
            </p:nvCxnSpPr>
            <p:spPr>
              <a:xfrm flipH="1">
                <a:off x="7662960" y="1955880"/>
                <a:ext cx="74520" cy="141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4" name=""/>
              <p:cNvCxnSpPr>
                <a:stCxn id="1097" idx="6"/>
                <a:endCxn id="1095" idx="2"/>
              </p:cNvCxnSpPr>
              <p:nvPr/>
            </p:nvCxnSpPr>
            <p:spPr>
              <a:xfrm>
                <a:off x="7691400" y="2149200"/>
                <a:ext cx="377280" cy="42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5" name=""/>
              <p:cNvCxnSpPr>
                <a:stCxn id="1096" idx="5"/>
                <a:endCxn id="1095" idx="1"/>
              </p:cNvCxnSpPr>
              <p:nvPr/>
            </p:nvCxnSpPr>
            <p:spPr>
              <a:xfrm>
                <a:off x="7796880" y="1936080"/>
                <a:ext cx="298800" cy="2034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6" name=""/>
              <p:cNvCxnSpPr>
                <a:stCxn id="1094" idx="4"/>
                <a:endCxn id="1095" idx="0"/>
              </p:cNvCxnSpPr>
              <p:nvPr/>
            </p:nvCxnSpPr>
            <p:spPr>
              <a:xfrm flipH="1">
                <a:off x="8153640" y="1942200"/>
                <a:ext cx="83520" cy="1767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107" name=""/>
              <p:cNvCxnSpPr>
                <a:stCxn id="1094" idx="5"/>
                <a:endCxn id="1092" idx="1"/>
              </p:cNvCxnSpPr>
              <p:nvPr/>
            </p:nvCxnSpPr>
            <p:spPr>
              <a:xfrm>
                <a:off x="8296200" y="1921680"/>
                <a:ext cx="199440" cy="147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108" name=""/>
            <p:cNvSpPr/>
            <p:nvPr/>
          </p:nvSpPr>
          <p:spPr>
            <a:xfrm>
              <a:off x="5029200" y="1371600"/>
              <a:ext cx="3663720" cy="93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41840" y="1603440"/>
              <a:ext cx="668520" cy="347760"/>
            </a:xfrm>
            <a:prstGeom prst="rightArrow">
              <a:avLst>
                <a:gd name="adj1" fmla="val 50000"/>
                <a:gd name="adj2" fmla="val 48059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erbal Remembering and Forgetting Predicted by fMRI Activit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rcRect l="8594" t="24305" r="22526" b="30733"/>
          <a:stretch/>
        </p:blipFill>
        <p:spPr>
          <a:xfrm>
            <a:off x="438120" y="2206800"/>
            <a:ext cx="8267760" cy="404784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349360" y="1511280"/>
            <a:ext cx="42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Wagner et al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99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rcRect l="6259" t="13229" r="12642" b="8562"/>
          <a:stretch/>
        </p:blipFill>
        <p:spPr>
          <a:xfrm>
            <a:off x="228600" y="380880"/>
            <a:ext cx="8136000" cy="63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56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udy 1: Word Categor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67812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ild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wel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523880"/>
            <a:ext cx="41148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838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with Francisco Pereira, Marcel Jus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905120"/>
            <a:ext cx="50292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locks of 20 words from single*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locks of each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from different word categories interle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uman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ich Machine Learning Method Works Best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568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consistent with [Ng &amp; Jordan 2002] analysis of discriminative vs. generative clas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atures, GNB converges toward asymptotic accuracy in 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 converges in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 dominates GNB asympto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GNB &gt; SVM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imensional, scarce 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raining Classifier for Word Categori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MRI(t,t+20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-category(t,t+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MRI(t1,t2)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xels, mean activation of each during interval [t1 t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single-subject class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Naïve Bay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fMRI | word-categ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 nbr with spatial-correlation distanc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election: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produce best single-voxel class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st contrast between fixation and any on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Tom M. Mitchell</dc:creator>
  <dc:description/>
  <dc:language>en-US</dc:language>
  <cp:lastModifiedBy>Tom M. Mitchell</cp:lastModifiedBy>
  <dcterms:modified xsi:type="dcterms:W3CDTF">2004-12-11T02:10:09Z</dcterms:modified>
  <cp:revision>644</cp:revision>
  <dc:subject/>
  <dc:title>PowerPoint Presentation</dc:title>
</cp:coreProperties>
</file>